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6CFC-5FD3-4539-BA3C-AF07301BC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3ED6-E013-4E3C-BDF2-C029CA2E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CA47-1C0F-4526-B673-A47A963F6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EFAD-2961-43AD-83A2-59CC81254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DAF4-9238-40FF-839A-117B013F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C2C1-66EB-4030-8207-53004B40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94B9-0148-46B0-A4F9-6CAEE97B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A0B7-66B8-4619-AD4E-BC69884F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A06E-8357-4463-B728-0FD3EAF3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BC79-9919-473E-8E88-D2162C0B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DDC6-6743-4D0B-9F76-518C2EF3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DDAC-DED0-4C6A-A1A7-1A38B35A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97E7-F897-42C8-B5AA-F2425E952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9960" y="1219320"/>
            <a:ext cx="7799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Chapter 7 Manufacturing Quality Improvement: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Footnote 1: Technical details for the stator bar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1DA6-69B7-4389-A7EA-77091FFE2B6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8377"/>
          <a:stretch/>
        </p:blipFill>
        <p:spPr>
          <a:xfrm>
            <a:off x="282600" y="287280"/>
            <a:ext cx="8785080" cy="6037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7FEE-0F95-43CE-9357-D84486890D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86440" y="231840"/>
            <a:ext cx="626148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lly Nested Analysis of Vari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nalysis of Variance for Thick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ource     DF             SS           MS       F       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UP       4       523.8025     130.9506  12.075   0.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ESSRUN   10       108.4492      10.8449   6.371   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AR        45        76.6012       1.7022  35.525   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PEAT     60         2.8750       0.047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tal     119       711.727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nce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ource      Var Comp.   % of Total       StD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UP          5.004         71.26       2.2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ESSRUN       1.143         16.27       1.06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AR            0.827         11.78       0.9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PEAT         0.048          0.68       0.2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tal          7.022                     2.6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pected Mean Squa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SETUP     1.00(4) +  2.00(3) +  8.00(2) + 24.00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 PRESSRUN  1.00(4) +  2.00(3) +  8.00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 BAR       1.00(4) +  2.00(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 REPEAT    1.00(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44480" y="117360"/>
            <a:ext cx="14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DF0C-17E2-4DB9-B3E2-C436969287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19532" t="19791" r="17188" b="13540"/>
          <a:stretch/>
        </p:blipFill>
        <p:spPr>
          <a:xfrm>
            <a:off x="1523880" y="990720"/>
            <a:ext cx="6172200" cy="4876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119600" y="193680"/>
            <a:ext cx="69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lides 3 through 6 illustrate a JMP session to obta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Point and interval estimates presented in Section 7.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65B0-AB9A-40F2-9E21-493E503529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9376"/>
          <a:stretch/>
        </p:blipFill>
        <p:spPr>
          <a:xfrm>
            <a:off x="152280" y="735120"/>
            <a:ext cx="8785440" cy="5970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30400" y="2286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640" y="2286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18280" y="15228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Thic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609480"/>
            <a:ext cx="1447560" cy="9907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533520"/>
            <a:ext cx="609480" cy="106668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124080" y="533520"/>
            <a:ext cx="76320" cy="99036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96600" y="15228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Input dat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07DF-821E-481A-B464-E1E9CEACD1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10420"/>
          <a:stretch/>
        </p:blipFill>
        <p:spPr>
          <a:xfrm>
            <a:off x="291960" y="657360"/>
            <a:ext cx="8775720" cy="5895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9E6B-2328-45A5-BC6E-18E56EE3AD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9376"/>
          <a:stretch/>
        </p:blipFill>
        <p:spPr>
          <a:xfrm>
            <a:off x="206280" y="430200"/>
            <a:ext cx="8785440" cy="5970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320" y="4267080"/>
            <a:ext cx="5181480" cy="129564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44480" y="0"/>
            <a:ext cx="14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5AF5-08FA-4681-867C-0A9EE484E3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4800" y="990720"/>
            <a:ext cx="7861680" cy="416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dence Interval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 Error /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.025,24,in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 E/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.975,24,inf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Section 5.2.2 in Burdick et 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 Error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.04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.025,24, in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0.51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.975,24,in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.64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fidence intervals can be calculated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17 to .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0FD4-CFF7-43B5-B804-05375082EF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19532" t="39583" r="16405" b="30211"/>
          <a:stretch/>
        </p:blipFill>
        <p:spPr>
          <a:xfrm>
            <a:off x="1295280" y="2438280"/>
            <a:ext cx="6248520" cy="2210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16720" y="193680"/>
            <a:ext cx="752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lides 8 through 11 illustrate a Minitab session to obta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estimates presented in Table 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08DF-ED0A-49F8-93A1-521C188F1F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9376"/>
          <a:stretch/>
        </p:blipFill>
        <p:spPr>
          <a:xfrm>
            <a:off x="206280" y="582480"/>
            <a:ext cx="8785440" cy="5970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196600" y="15228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Input dat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7F64-91CE-4C9C-8FEA-E863675319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9376"/>
          <a:stretch/>
        </p:blipFill>
        <p:spPr>
          <a:xfrm>
            <a:off x="206280" y="277920"/>
            <a:ext cx="8785440" cy="597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5D0E-666C-42B8-8327-852BF4D63D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3:57:35Z</dcterms:created>
  <dc:creator>GE Global Research</dc:creator>
  <dc:description/>
  <dc:language>en-US</dc:language>
  <cp:lastModifiedBy>GE Global Research</cp:lastModifiedBy>
  <dcterms:modified xsi:type="dcterms:W3CDTF">2008-05-29T18:03:49Z</dcterms:modified>
  <cp:revision>7</cp:revision>
  <dc:subject/>
  <dc:title>PowerPoint Presentation</dc:title>
</cp:coreProperties>
</file>