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8BA-2DF6-4133-A3ED-D819733A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FE8-EAFB-4AD4-9218-BF7B0600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91E-AC1C-43DE-BB07-D134769A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471-5476-4A58-BA13-A6FF4AE0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A8F-A023-4FE3-BF40-C9B88972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324-BC4D-42E0-95DD-F05DA5A7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BA1B-DCE4-49E7-91DE-6AEE71B5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FC5-CB11-4FCE-BCB3-0C1347B6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B21-1168-416B-A3A3-B66A60CB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EF6-7EE7-4E28-B33F-6783A061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9D1-50E8-4EC1-80B6-6A5F2005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D4F-B642-44A7-8D25-ACC2F1AE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9CCC-DC5A-418C-98E2-A804D6E02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0480" y="1219320"/>
            <a:ext cx="697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hapter 5 (Product Reliability Assuran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ootnote 14: Technical details for the ALT 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3476520"/>
            <a:ext cx="76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is presentation illustrates a Minitab session to obtain analytic estimates for this example. Other software packages such as JMP, SAS, S-Plus add-on Splida can be used to obtain similar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DDC-DC94-4C78-A086-805C2241BF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216000" y="609480"/>
            <a:ext cx="8775720" cy="6170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92240" y="763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ad in the dat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F3B-E07C-4314-8213-363C26BD04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130320" y="671400"/>
            <a:ext cx="8785080" cy="6110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79120" y="1522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onvert “hours” to “yea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539-5DFC-4C10-A458-7008972427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152280" y="51912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62520" y="2895480"/>
            <a:ext cx="0" cy="6858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29400" y="7632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tting up for analysis (slides 4 -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288-A130-4940-8519-03008F5810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3DF-875A-4BFE-9DA1-3F165C351C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152280" y="29052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4120" y="685800"/>
            <a:ext cx="1066680" cy="289548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69C-F1B1-4631-A1C2-D5AC81EC71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82600" y="290520"/>
            <a:ext cx="8785080" cy="6110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10080" y="990720"/>
            <a:ext cx="1219320" cy="236196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8C8-24AF-470F-9817-A059881BAF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0760" y="330120"/>
            <a:ext cx="76482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ression with Lif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ponse Variable:  Years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ensoring Information               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censored value                        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ight censored value                    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ribution:  Weib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formation on accelerating variable:  Log bas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ress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ndard                       90.0% Normal 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dictor       Coef      Error        Z     P       Lower       U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cept     45.899      5.568     8.24 0.000      36.741      55.0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ess        -9.812      1.174    -8.36 0.000     -11.743      -7.8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le        0.44084    0.06162                    0.35028     0.55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g-Likelihood =     -42.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able of Percent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ndard        90.0% Normal 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cent    Stress (  Percentile       Error       Lower       U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  60.0000     40.3202     27.3126     13.2320    122.86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1720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Model parameter est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095520" y="2209680"/>
            <a:ext cx="1676520" cy="6858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6019920"/>
            <a:ext cx="464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The approximate 95% lower confidence bound on the first percentile of the lifetime distribution at 60 v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62720" y="5714640"/>
            <a:ext cx="380880" cy="304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5040" y="22860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F5A-AB8A-4775-A41A-423B664EB8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1:38:30Z</dcterms:created>
  <dc:creator>GE Global Research</dc:creator>
  <dc:description/>
  <dc:language>en-US</dc:language>
  <cp:lastModifiedBy>GE Global Research</cp:lastModifiedBy>
  <dcterms:modified xsi:type="dcterms:W3CDTF">2008-05-29T18:03:52Z</dcterms:modified>
  <cp:revision>6</cp:revision>
  <dc:subject/>
  <dc:title>PowerPoint Presentation</dc:title>
</cp:coreProperties>
</file>