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EE0-AD97-43AE-987D-EB7C2275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84A-CD44-4503-9002-2F2CC81C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25D-B3A6-4980-8B06-65384AA2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84C-95D9-4FEF-9237-FAAE06C8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162-9127-4C5C-BBF1-EF2878AE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72F-7963-45A6-A5EE-2841441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92D-1706-4D77-B934-E12A6680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39C-46E3-44E8-BB2B-D8E8D08D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A21-CE2E-46F1-9B5D-E03AD1D2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2C1-A6AD-4769-B469-B3648146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BDD-D98F-4C71-903D-BF75ADB9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589-5DC4-4147-8269-645B7B4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7C86-9EDB-4697-BB96-8FB359238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8680" y="1219320"/>
            <a:ext cx="627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5 (Product Reliability Assuran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19: Technical details for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ulti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ailure modes exampl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476520"/>
            <a:ext cx="76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presentation illustrates a Minitab session to obtain analytic estimates for this example. Other software packages such as JMP, SAS, S-Plus add-on Splida can be used to obtain similar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C61-DBDA-4B14-9A79-6945DD01D8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152280" y="53496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31200" y="763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016-ACC1-46A2-9309-B5C23F4BDB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216000" y="38088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2BB-11D4-4F61-B78E-A31DBA849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20120" y="990720"/>
            <a:ext cx="6154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ion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:  time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soring Information               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censored value                       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 censored value                   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:  Weib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5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 Estimat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        5.6020      0.7985      4.2365      7.40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le         344.30       12.04      321.49      368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88040" y="270000"/>
            <a:ext cx="60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: Maximum Likelihood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r Lifetime Distribution for Failure M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720" y="4572000"/>
            <a:ext cx="6154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le of Percent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5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cent  Percentil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151.4632     19.4270    117.7958    194.75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16280" y="5715000"/>
            <a:ext cx="738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We used the S-Plus add on SPLIDA to obtain the point and interval estimates for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cen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system reliabili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.Q. Meeker, SLIDA S-Plus Life Data Analysis Functions and Graphical User Interfa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www.public.iastate.edu/~stat533/slida.htm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81A-41A6-4A74-B3AC-1DC383F43B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191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2240" y="763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ad in the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413-023F-4882-BFC3-922364871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9544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1200" y="7632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reate a censoring variable for failure mode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51C-0A0A-4428-8674-AC8946BC5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67140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2971800"/>
            <a:ext cx="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46A-A5A1-4DF4-840D-4000738F21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9544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1920" y="7632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reate a censoring variable for failure mode “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7F8-AA17-4949-BBB1-64D749209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3049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24080" y="2895480"/>
            <a:ext cx="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221-747C-4561-AEF4-3D7B96B4A4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191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31200" y="763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D90-5E71-44D2-9A6C-9E9EED70C7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152280" y="23004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A66-870C-4AEA-979F-4AE557EB1C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67480" y="1625760"/>
            <a:ext cx="6154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ion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:  time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soring Information               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censored value                       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 censored value                  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:  Weib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5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 Estimat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        0.6354      0.1379      0.4153      0.97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le         1170.2       597.8       429.9      3184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87680" y="270000"/>
            <a:ext cx="60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: Maximum Likelihood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r Lifetime Distribution for Failure Mod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3AE-B469-4537-BA01-146D7EFFF5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2:09:36Z</dcterms:created>
  <dc:creator>GE Global Research</dc:creator>
  <dc:description/>
  <dc:language>en-US</dc:language>
  <cp:lastModifiedBy>GE Global Research</cp:lastModifiedBy>
  <dcterms:modified xsi:type="dcterms:W3CDTF">2008-06-09T15:49:48Z</dcterms:modified>
  <cp:revision>6</cp:revision>
  <dc:subject/>
  <dc:title>PowerPoint Presentation</dc:title>
</cp:coreProperties>
</file>