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310-9517-4B31-AA30-609BCFC6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120-96DB-4D65-B572-B4CD0D95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9FD-5BC9-405F-A0FA-ED509B05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DE4D-E47F-40DD-A624-44989ABA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44F-EE89-42D8-B0EA-6C0931C2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7E6-B27D-4C30-B3E6-8498DABD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983A-BF3F-4DCB-98B3-57D760B1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260-FF8B-4812-BCF6-D7CF93F0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95A1-FBEF-4C27-A36B-C5DDC4C3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66E-3A52-4AA6-A658-4C7F9953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270-349A-44D3-9523-E374DE5E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7710-E284-484F-A317-65E08532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D076-E27B-4705-BCF1-7BAD84063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21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3476520"/>
            <a:ext cx="76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This presentation illustrates a Minitab session to obtain analytic estimates for this example. Other software packages such as JMP, SAS, S-Plus add-on Splida can be used to obtain similar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0480" y="1219320"/>
            <a:ext cx="728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hapter 5 (Product Reliability Assuran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ootnote 9: Technical details for the washing mach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204-8DC9-43E0-ABA6-913C70D9D6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228600" y="458640"/>
            <a:ext cx="8775720" cy="617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92240" y="7632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ead in the dat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2984-C750-4909-AA0F-B6DBDF143E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206280" y="595440"/>
            <a:ext cx="8785440" cy="6110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29400" y="7632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tting up for analysis (slides 3 -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39E-99E5-4A3E-83E0-67F0E7D4C9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206280" y="380880"/>
            <a:ext cx="8785440" cy="611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3A1-47C1-4EB2-8BB1-730AF8D4D6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152280" y="230040"/>
            <a:ext cx="8775720" cy="617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67A-72CE-4348-B437-502DBB0655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9788" b="0"/>
          <a:stretch/>
        </p:blipFill>
        <p:spPr>
          <a:xfrm>
            <a:off x="569880" y="380880"/>
            <a:ext cx="7888320" cy="5349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97560" y="5638680"/>
            <a:ext cx="519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able of Survival Proba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90.0% Normal 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ime  Probability       Lower       U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.0000       0.9939      0.9606      0.99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44680" y="19368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5633-96B7-48E1-BD26-DC81DC17E7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1:25:00Z</dcterms:created>
  <dc:creator>GE Global Research</dc:creator>
  <dc:description/>
  <dc:language>en-US</dc:language>
  <cp:lastModifiedBy>GE Global Research</cp:lastModifiedBy>
  <dcterms:modified xsi:type="dcterms:W3CDTF">2008-05-29T18:03:50Z</dcterms:modified>
  <cp:revision>6</cp:revision>
  <dc:subject/>
  <dc:title>PowerPoint Presentation</dc:title>
</cp:coreProperties>
</file>