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A5D-4D61-4D90-B940-4208B502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0BB-0B6E-4256-B026-5B972D8E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A31-05D2-4478-A5B0-1D614840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71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986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43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71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986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627-5FAF-4F39-8385-1ABCC549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CA8-0751-45F0-92DC-00993C4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B4D8-965A-4B5E-812D-812422C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3E4B-5361-4905-9928-EFFA40E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F781-C9CE-4848-AE14-93C4FA7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C3BE-56E7-4109-AD8B-0B14E0F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18800" y="-360"/>
            <a:ext cx="787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15D-A198-4D3F-B8B8-3D86AAD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620-CB8E-434F-81E6-9790672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A73-27BE-4952-AAFC-4403E64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F1E-154A-4B7C-9380-E26DFA0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435-D664-49C5-9B1D-FB0C74D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2E29-0F17-4C8B-84B0-8CA09FFB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02C0-40D5-4B4B-8ABF-AF401FE8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71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986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143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71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3986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1BA-659E-4EA5-9AC7-84A54DC0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6E5-91B4-431A-9611-3B3A8FC9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81F-D95B-44F2-B496-84A7739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970-0D84-4A96-BE82-2EF9681C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18800" y="-360"/>
            <a:ext cx="787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1E3-25C6-4128-AFF7-C9A43D7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B51-E211-4A3F-83B8-379498B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1E9-F34B-4FF8-8516-8FB81B3D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BD0-80EA-4D02-90AE-724139F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1b1b8a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5545-A6E5-4F70-A14B-850BB3E32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91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2020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25A-D2C9-4945-A384-98C9DF500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828800"/>
            <a:ext cx="9144000" cy="1766880"/>
            <a:chOff x="0" y="1828800"/>
            <a:chExt cx="9144000" cy="1766880"/>
          </a:xfrm>
        </p:grpSpPr>
        <p:sp>
          <p:nvSpPr>
            <p:cNvPr id="111" name=""/>
            <p:cNvSpPr/>
            <p:nvPr/>
          </p:nvSpPr>
          <p:spPr>
            <a:xfrm>
              <a:off x="12600" y="33480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00" y="35575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828800"/>
              <a:ext cx="1322280" cy="1571760"/>
              <a:chOff x="0" y="1828800"/>
              <a:chExt cx="1322280" cy="157176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18288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0" y="20430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920" y="20718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1880" y="24764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troduction to the prediction of mechanism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Ma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Illinois, Urbana Ch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ll Possible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7F4-2E75-4820-8A3E-158537E703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Must Have Initiation Reac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0360" y="146376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eed one of the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70400" y="1847880"/>
            <a:ext cx="457200" cy="218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187520" y="1645920"/>
            <a:ext cx="639720" cy="182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D07-FB65-48B3-8BAD-D6960B5B5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Must Have Catalytic Cycl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C1D-4F67-4BE8-B05F-1F86672D0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Should Have A Termination Reac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9600" y="501156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nt one of the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352400" y="4846680"/>
            <a:ext cx="63828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133880" y="5340240"/>
            <a:ext cx="858960" cy="328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BFE-6BCC-4168-A35B-3B52F943B4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Ignore exchange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BB2-4252-4C85-93B6-749FAC5E5F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Initiation reaction: weakest bond break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04 kcal/mol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  (44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FF7-F72C-4136-BDD8-821DFA7C7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7B1-6F30-4095-9EB9-AC9E858B2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 for other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40 kT for sid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lculate minimum temperature for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any other steps which follow the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7AD-9351-4C79-9A5E-6FF6AB5EB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olanyi Relationship To Estimate Activation Barrie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2600" y="3892680"/>
            <a:ext cx="8119080" cy="1189800"/>
          </a:xfrm>
          <a:prstGeom prst="rect">
            <a:avLst/>
          </a:prstGeom>
          <a:solidFill>
            <a:srgbClr val="66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f someone claims to have a general correlation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rates the prudent engineer should be suspicious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.D. Schmidt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36800" y="159876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nyi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5715000" cy="914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74840" y="2565360"/>
            <a:ext cx="2994480" cy="659880"/>
            <a:chOff x="2274840" y="2565360"/>
            <a:chExt cx="2994480" cy="659880"/>
          </a:xfrm>
        </p:grpSpPr>
        <p:sp>
          <p:nvSpPr>
            <p:cNvPr id="226" name=""/>
            <p:cNvSpPr/>
            <p:nvPr/>
          </p:nvSpPr>
          <p:spPr>
            <a:xfrm>
              <a:off x="5180040" y="29048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72920" y="2904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37720" y="258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38440" y="2904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82640" y="2904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15720" y="26193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30640" y="261936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74840" y="261936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4920" y="2565360"/>
              <a:ext cx="281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300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0160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6992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858000" y="2438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arameter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0FB-58DB-41A8-B987-4026CB05F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lowers-Masel Equ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56280" y="3006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parameter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50840" y="2116080"/>
            <a:ext cx="5715000" cy="2666880"/>
            <a:chOff x="1050840" y="2116080"/>
            <a:chExt cx="5715000" cy="2666880"/>
          </a:xfrm>
        </p:grpSpPr>
        <p:sp>
          <p:nvSpPr>
            <p:cNvPr id="242" name=""/>
            <p:cNvSpPr/>
            <p:nvPr/>
          </p:nvSpPr>
          <p:spPr>
            <a:xfrm>
              <a:off x="1050840" y="2116080"/>
              <a:ext cx="5715000" cy="26668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388160" y="2739600"/>
              <a:ext cx="5302080" cy="1292040"/>
              <a:chOff x="1388160" y="2739600"/>
              <a:chExt cx="5302080" cy="1292040"/>
            </a:xfrm>
          </p:grpSpPr>
          <p:sp>
            <p:nvSpPr>
              <p:cNvPr id="244" name=""/>
              <p:cNvSpPr/>
              <p:nvPr/>
            </p:nvSpPr>
            <p:spPr>
              <a:xfrm>
                <a:off x="204696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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7568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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4884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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4752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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17520" y="3428280"/>
                <a:ext cx="4191120" cy="144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424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1560" y="3756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4132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96960" y="37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9192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47560" y="37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5040" y="28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1840" y="3164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36560" y="31647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14600" y="316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00000" y="3164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65080" y="31647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26480" y="341892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8572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9996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85400" y="3509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1104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8600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3992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6800" y="29170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7628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1416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6952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4040" y="29170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88160" y="317124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17880" y="350136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2960" y="34632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56520" y="346320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43360" y="290916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02880" y="28710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96480" y="287100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31920" y="290304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05840" y="28710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97840" y="312516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3685320" y="5013360"/>
            <a:ext cx="50482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meter related to intrinsic b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998680" y="2165400"/>
            <a:ext cx="397080" cy="815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3480" y="1933560"/>
            <a:ext cx="36705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d Dissociation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76640" y="2325600"/>
            <a:ext cx="284040" cy="754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27720" y="1933560"/>
            <a:ext cx="23367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t of re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3946680"/>
            <a:ext cx="816120" cy="116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B07-2490-428A-AFC2-F6AD3F03B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2800" y="131400"/>
            <a:ext cx="78166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Do We Care?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30400" y="135720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af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47160" y="93024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reactor desig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need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F3B-A634-469C-9F83-6EABA21AF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Gives Reasonable Result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41600" y="1362240"/>
          <a:ext cx="58212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362240"/>
                    <a:ext cx="58212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D60-F51C-40B7-AE2D-3BEDDB39B8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able of Parameter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20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0" y="1271520"/>
                <a:ext cx="2192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2154240"/>
                <a:ext cx="2192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085760" y="1065240"/>
            <a:ext cx="7596360" cy="4968360"/>
            <a:chOff x="1085760" y="1065240"/>
            <a:chExt cx="7596360" cy="4968360"/>
          </a:xfrm>
        </p:grpSpPr>
        <p:grpSp>
          <p:nvGrpSpPr>
            <p:cNvPr id="297" name=""/>
            <p:cNvGrpSpPr/>
            <p:nvPr/>
          </p:nvGrpSpPr>
          <p:grpSpPr>
            <a:xfrm>
              <a:off x="1085760" y="1065240"/>
              <a:ext cx="7596360" cy="460440"/>
              <a:chOff x="1085760" y="1065240"/>
              <a:chExt cx="7596360" cy="460440"/>
            </a:xfrm>
          </p:grpSpPr>
          <p:sp>
            <p:nvSpPr>
              <p:cNvPr id="298" name=""/>
              <p:cNvSpPr/>
              <p:nvPr/>
            </p:nvSpPr>
            <p:spPr>
              <a:xfrm>
                <a:off x="1154160" y="1065240"/>
                <a:ext cx="74595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able 5.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Intrinsic barriers and transfer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efficients for different types of reaction of neutral specie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1065240"/>
                <a:ext cx="7596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085760" y="1525680"/>
              <a:ext cx="1393920" cy="904320"/>
              <a:chOff x="1085760" y="1525680"/>
              <a:chExt cx="1393920" cy="9043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54160" y="1525680"/>
                <a:ext cx="125712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85760" y="1525680"/>
                <a:ext cx="139392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79680" y="1525680"/>
              <a:ext cx="1793880" cy="904320"/>
              <a:chOff x="2479680" y="1525680"/>
              <a:chExt cx="1793880" cy="904320"/>
            </a:xfrm>
          </p:grpSpPr>
          <p:sp>
            <p:nvSpPr>
              <p:cNvPr id="304" name=""/>
              <p:cNvSpPr/>
              <p:nvPr/>
            </p:nvSpPr>
            <p:spPr>
              <a:xfrm>
                <a:off x="2547720" y="1525680"/>
                <a:ext cx="16574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amp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479680" y="1525680"/>
                <a:ext cx="17938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273560" y="1525680"/>
              <a:ext cx="1108080" cy="904320"/>
              <a:chOff x="4273560" y="1525680"/>
              <a:chExt cx="1108080" cy="904320"/>
            </a:xfrm>
          </p:grpSpPr>
          <p:sp>
            <p:nvSpPr>
              <p:cNvPr id="307" name=""/>
              <p:cNvSpPr/>
              <p:nvPr/>
            </p:nvSpPr>
            <p:spPr>
              <a:xfrm>
                <a:off x="4341600" y="1525680"/>
                <a:ext cx="9716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ctual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cal/mo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73560" y="1525680"/>
                <a:ext cx="11080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381640" y="1525680"/>
              <a:ext cx="1160280" cy="904320"/>
              <a:chOff x="5381640" y="1525680"/>
              <a:chExt cx="1160280" cy="904320"/>
            </a:xfrm>
          </p:grpSpPr>
          <p:sp>
            <p:nvSpPr>
              <p:cNvPr id="310" name=""/>
              <p:cNvSpPr/>
              <p:nvPr/>
            </p:nvSpPr>
            <p:spPr>
              <a:xfrm>
                <a:off x="5449680" y="1525680"/>
                <a:ext cx="10242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ssume when predicting mechanisms kcal/mo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81640" y="1525680"/>
                <a:ext cx="11602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541920" y="1525680"/>
              <a:ext cx="955800" cy="904320"/>
              <a:chOff x="6541920" y="1525680"/>
              <a:chExt cx="955800" cy="904320"/>
            </a:xfrm>
          </p:grpSpPr>
          <p:sp>
            <p:nvSpPr>
              <p:cNvPr id="313" name=""/>
              <p:cNvSpPr/>
              <p:nvPr/>
            </p:nvSpPr>
            <p:spPr>
              <a:xfrm>
                <a:off x="6610320" y="1525680"/>
                <a:ext cx="8190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ctual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1400" spc="-1" strike="noStrike" baseline="-30000">
                    <a:solidFill>
                      <a:srgbClr val="ffffff"/>
                    </a:solidFill>
                    <a:latin typeface="Arial"/>
                    <a:ea typeface="Times New Roman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41920" y="1525680"/>
                <a:ext cx="95580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497720" y="1525680"/>
              <a:ext cx="1184400" cy="904320"/>
              <a:chOff x="7497720" y="1525680"/>
              <a:chExt cx="1184400" cy="904320"/>
            </a:xfrm>
          </p:grpSpPr>
          <p:sp>
            <p:nvSpPr>
              <p:cNvPr id="316" name=""/>
              <p:cNvSpPr/>
              <p:nvPr/>
            </p:nvSpPr>
            <p:spPr>
              <a:xfrm>
                <a:off x="7565760" y="1525680"/>
                <a:ext cx="104796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1400" spc="-1" strike="noStrike" baseline="-30000">
                    <a:solidFill>
                      <a:srgbClr val="ffff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to assume when predicting mechanism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97720" y="1525680"/>
                <a:ext cx="118440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085760" y="2430360"/>
              <a:ext cx="1393920" cy="492120"/>
              <a:chOff x="1085760" y="2430360"/>
              <a:chExt cx="1393920" cy="4921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54160" y="2430360"/>
                <a:ext cx="12571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imple bond sciss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85760" y="2430360"/>
                <a:ext cx="13939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479680" y="2430360"/>
              <a:ext cx="1793880" cy="492120"/>
              <a:chOff x="2479680" y="2430360"/>
              <a:chExt cx="1793880" cy="492120"/>
            </a:xfrm>
          </p:grpSpPr>
          <p:sp>
            <p:nvSpPr>
              <p:cNvPr id="322" name=""/>
              <p:cNvSpPr/>
              <p:nvPr/>
            </p:nvSpPr>
            <p:spPr>
              <a:xfrm>
                <a:off x="2547720" y="2430360"/>
                <a:ext cx="16574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B+X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+B+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 collision partn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79680" y="2430360"/>
                <a:ext cx="17938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273560" y="2430360"/>
              <a:ext cx="1108080" cy="492120"/>
              <a:chOff x="4273560" y="2430360"/>
              <a:chExt cx="1108080" cy="492120"/>
            </a:xfrm>
          </p:grpSpPr>
          <p:sp>
            <p:nvSpPr>
              <p:cNvPr id="325" name=""/>
              <p:cNvSpPr/>
              <p:nvPr/>
            </p:nvSpPr>
            <p:spPr>
              <a:xfrm>
                <a:off x="4341600" y="2430360"/>
                <a:ext cx="9716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73560" y="2430360"/>
                <a:ext cx="11080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381640" y="2430360"/>
              <a:ext cx="1160280" cy="492120"/>
              <a:chOff x="5381640" y="2430360"/>
              <a:chExt cx="1160280" cy="492120"/>
            </a:xfrm>
          </p:grpSpPr>
          <p:sp>
            <p:nvSpPr>
              <p:cNvPr id="328" name=""/>
              <p:cNvSpPr/>
              <p:nvPr/>
            </p:nvSpPr>
            <p:spPr>
              <a:xfrm>
                <a:off x="5449680" y="2430360"/>
                <a:ext cx="1024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81640" y="2430360"/>
                <a:ext cx="11602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541920" y="2430360"/>
              <a:ext cx="955800" cy="492120"/>
              <a:chOff x="6541920" y="2430360"/>
              <a:chExt cx="955800" cy="49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6610320" y="2430360"/>
                <a:ext cx="8190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41920" y="2430360"/>
                <a:ext cx="9558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497720" y="2430360"/>
              <a:ext cx="1184400" cy="492120"/>
              <a:chOff x="7497720" y="2430360"/>
              <a:chExt cx="1184400" cy="492120"/>
            </a:xfrm>
          </p:grpSpPr>
          <p:sp>
            <p:nvSpPr>
              <p:cNvPr id="334" name=""/>
              <p:cNvSpPr/>
              <p:nvPr/>
            </p:nvSpPr>
            <p:spPr>
              <a:xfrm>
                <a:off x="7565760" y="2430360"/>
                <a:ext cx="104796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97720" y="2430360"/>
                <a:ext cx="11844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085760" y="2922480"/>
              <a:ext cx="1393920" cy="491760"/>
              <a:chOff x="1085760" y="2922480"/>
              <a:chExt cx="1393920" cy="49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54160" y="2922480"/>
                <a:ext cx="12571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combin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85760" y="2922480"/>
                <a:ext cx="139392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479680" y="2922480"/>
              <a:ext cx="1793880" cy="491760"/>
              <a:chOff x="2479680" y="2922480"/>
              <a:chExt cx="1793880" cy="491760"/>
            </a:xfrm>
          </p:grpSpPr>
          <p:sp>
            <p:nvSpPr>
              <p:cNvPr id="340" name=""/>
              <p:cNvSpPr/>
              <p:nvPr/>
            </p:nvSpPr>
            <p:spPr>
              <a:xfrm>
                <a:off x="2547720" y="2922480"/>
                <a:ext cx="165744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+B+X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+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 collision partn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79680" y="2922480"/>
                <a:ext cx="17938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273560" y="2922480"/>
              <a:ext cx="1108080" cy="491760"/>
              <a:chOff x="4273560" y="2922480"/>
              <a:chExt cx="1108080" cy="491760"/>
            </a:xfrm>
          </p:grpSpPr>
          <p:sp>
            <p:nvSpPr>
              <p:cNvPr id="343" name=""/>
              <p:cNvSpPr/>
              <p:nvPr/>
            </p:nvSpPr>
            <p:spPr>
              <a:xfrm>
                <a:off x="4341600" y="2922480"/>
                <a:ext cx="97164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73560" y="2922480"/>
                <a:ext cx="11080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381640" y="2922480"/>
              <a:ext cx="1160280" cy="491760"/>
              <a:chOff x="5381640" y="2922480"/>
              <a:chExt cx="1160280" cy="491760"/>
            </a:xfrm>
          </p:grpSpPr>
          <p:sp>
            <p:nvSpPr>
              <p:cNvPr id="346" name=""/>
              <p:cNvSpPr/>
              <p:nvPr/>
            </p:nvSpPr>
            <p:spPr>
              <a:xfrm>
                <a:off x="5449680" y="2922480"/>
                <a:ext cx="102420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1640" y="2922480"/>
                <a:ext cx="11602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541920" y="2922480"/>
              <a:ext cx="955800" cy="491760"/>
              <a:chOff x="6541920" y="2922480"/>
              <a:chExt cx="955800" cy="491760"/>
            </a:xfrm>
          </p:grpSpPr>
          <p:sp>
            <p:nvSpPr>
              <p:cNvPr id="349" name=""/>
              <p:cNvSpPr/>
              <p:nvPr/>
            </p:nvSpPr>
            <p:spPr>
              <a:xfrm>
                <a:off x="6610320" y="2922480"/>
                <a:ext cx="81900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41920" y="2922480"/>
                <a:ext cx="95580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497720" y="2922480"/>
              <a:ext cx="1184400" cy="491760"/>
              <a:chOff x="7497720" y="2922480"/>
              <a:chExt cx="1184400" cy="49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7565760" y="2922480"/>
                <a:ext cx="104796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97720" y="2922480"/>
                <a:ext cx="118440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085760" y="3414600"/>
              <a:ext cx="1393920" cy="682560"/>
              <a:chOff x="1085760" y="3414600"/>
              <a:chExt cx="1393920" cy="68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1154160" y="3414600"/>
                <a:ext cx="125712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othermic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ransfer 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85760" y="3414600"/>
                <a:ext cx="139392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479680" y="3414600"/>
              <a:ext cx="1793880" cy="682560"/>
              <a:chOff x="2479680" y="3414600"/>
              <a:chExt cx="1793880" cy="682560"/>
            </a:xfrm>
          </p:grpSpPr>
          <p:sp>
            <p:nvSpPr>
              <p:cNvPr id="358" name=""/>
              <p:cNvSpPr/>
              <p:nvPr/>
            </p:nvSpPr>
            <p:spPr>
              <a:xfrm>
                <a:off x="2547720" y="3414600"/>
                <a:ext cx="16574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x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x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 = 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79680" y="3414600"/>
                <a:ext cx="17938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273560" y="3414600"/>
              <a:ext cx="1108080" cy="682560"/>
              <a:chOff x="4273560" y="3414600"/>
              <a:chExt cx="1108080" cy="682560"/>
            </a:xfrm>
          </p:grpSpPr>
          <p:sp>
            <p:nvSpPr>
              <p:cNvPr id="361" name=""/>
              <p:cNvSpPr/>
              <p:nvPr/>
            </p:nvSpPr>
            <p:spPr>
              <a:xfrm>
                <a:off x="4341600" y="3414600"/>
                <a:ext cx="9716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8-1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273560" y="3414600"/>
                <a:ext cx="11080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381640" y="3414600"/>
              <a:ext cx="1160280" cy="682560"/>
              <a:chOff x="5381640" y="3414600"/>
              <a:chExt cx="1160280" cy="6825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49680" y="3414600"/>
                <a:ext cx="10242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81640" y="3414600"/>
                <a:ext cx="11602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541920" y="3414600"/>
              <a:ext cx="955800" cy="682560"/>
              <a:chOff x="6541920" y="3414600"/>
              <a:chExt cx="955800" cy="682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610320" y="3414600"/>
                <a:ext cx="8190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2 to 0.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41920" y="3414600"/>
                <a:ext cx="9558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497720" y="3414600"/>
              <a:ext cx="1184400" cy="682560"/>
              <a:chOff x="7497720" y="3414600"/>
              <a:chExt cx="1184400" cy="682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565760" y="3414600"/>
                <a:ext cx="104796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97720" y="3414600"/>
                <a:ext cx="11844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085760" y="4097160"/>
              <a:ext cx="1393920" cy="682200"/>
              <a:chOff x="1085760" y="4097160"/>
              <a:chExt cx="1393920" cy="682200"/>
            </a:xfrm>
          </p:grpSpPr>
          <p:sp>
            <p:nvSpPr>
              <p:cNvPr id="373" name=""/>
              <p:cNvSpPr/>
              <p:nvPr/>
            </p:nvSpPr>
            <p:spPr>
              <a:xfrm>
                <a:off x="1154160" y="4097160"/>
                <a:ext cx="125712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ndothermic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ransfer 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85760" y="4097160"/>
                <a:ext cx="139392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479680" y="4097160"/>
              <a:ext cx="1793880" cy="682200"/>
              <a:chOff x="2479680" y="4097160"/>
              <a:chExt cx="1793880" cy="682200"/>
            </a:xfrm>
          </p:grpSpPr>
          <p:sp>
            <p:nvSpPr>
              <p:cNvPr id="376" name=""/>
              <p:cNvSpPr/>
              <p:nvPr/>
            </p:nvSpPr>
            <p:spPr>
              <a:xfrm>
                <a:off x="2547720" y="4097160"/>
                <a:ext cx="1657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- </a:t>
                </a:r>
                <a:r>
                  <a:rPr b="0" i="1" lang="en-US" sz="7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x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x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79680" y="4097160"/>
                <a:ext cx="17938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73560" y="4097160"/>
              <a:ext cx="1108080" cy="682200"/>
              <a:chOff x="4273560" y="4097160"/>
              <a:chExt cx="1108080" cy="682200"/>
            </a:xfrm>
          </p:grpSpPr>
          <p:sp>
            <p:nvSpPr>
              <p:cNvPr id="379" name=""/>
              <p:cNvSpPr/>
              <p:nvPr/>
            </p:nvSpPr>
            <p:spPr>
              <a:xfrm>
                <a:off x="4341600" y="4097160"/>
                <a:ext cx="9716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8-1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73560" y="4097160"/>
                <a:ext cx="11080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381640" y="4097160"/>
              <a:ext cx="1160280" cy="682200"/>
              <a:chOff x="5381640" y="4097160"/>
              <a:chExt cx="1160280" cy="682200"/>
            </a:xfrm>
          </p:grpSpPr>
          <p:sp>
            <p:nvSpPr>
              <p:cNvPr id="382" name=""/>
              <p:cNvSpPr/>
              <p:nvPr/>
            </p:nvSpPr>
            <p:spPr>
              <a:xfrm>
                <a:off x="5449680" y="4097160"/>
                <a:ext cx="10242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81640" y="4097160"/>
                <a:ext cx="11602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41920" y="4097160"/>
              <a:ext cx="955800" cy="682200"/>
              <a:chOff x="6541920" y="4097160"/>
              <a:chExt cx="955800" cy="682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10320" y="4097160"/>
                <a:ext cx="8190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4 to 0.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41920" y="4097160"/>
                <a:ext cx="95580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497720" y="4097160"/>
              <a:ext cx="1184400" cy="682200"/>
              <a:chOff x="7497720" y="4097160"/>
              <a:chExt cx="1184400" cy="682200"/>
            </a:xfrm>
          </p:grpSpPr>
          <p:sp>
            <p:nvSpPr>
              <p:cNvPr id="388" name=""/>
              <p:cNvSpPr/>
              <p:nvPr/>
            </p:nvSpPr>
            <p:spPr>
              <a:xfrm>
                <a:off x="7565760" y="4097160"/>
                <a:ext cx="104796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97720" y="4097160"/>
                <a:ext cx="118440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085760" y="4779720"/>
              <a:ext cx="1393920" cy="682560"/>
              <a:chOff x="1085760" y="4779720"/>
              <a:chExt cx="1393920" cy="682560"/>
            </a:xfrm>
          </p:grpSpPr>
          <p:sp>
            <p:nvSpPr>
              <p:cNvPr id="391" name=""/>
              <p:cNvSpPr/>
              <p:nvPr/>
            </p:nvSpPr>
            <p:spPr>
              <a:xfrm>
                <a:off x="1154160" y="4779720"/>
                <a:ext cx="125712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igand transf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action to hydrog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5760" y="4779720"/>
                <a:ext cx="139392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479680" y="4779720"/>
              <a:ext cx="1793880" cy="682560"/>
              <a:chOff x="2479680" y="4779720"/>
              <a:chExt cx="1793880" cy="682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547720" y="4779720"/>
                <a:ext cx="16574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+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H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479680" y="4779720"/>
                <a:ext cx="17938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273560" y="4779720"/>
              <a:ext cx="1108080" cy="682560"/>
              <a:chOff x="4273560" y="4779720"/>
              <a:chExt cx="1108080" cy="682560"/>
            </a:xfrm>
          </p:grpSpPr>
          <p:sp>
            <p:nvSpPr>
              <p:cNvPr id="397" name=""/>
              <p:cNvSpPr/>
              <p:nvPr/>
            </p:nvSpPr>
            <p:spPr>
              <a:xfrm>
                <a:off x="4341600" y="4779720"/>
                <a:ext cx="9716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-5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73560" y="4779720"/>
                <a:ext cx="11080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381640" y="4779720"/>
              <a:ext cx="1160280" cy="682560"/>
              <a:chOff x="5381640" y="4779720"/>
              <a:chExt cx="1160280" cy="682560"/>
            </a:xfrm>
          </p:grpSpPr>
          <p:sp>
            <p:nvSpPr>
              <p:cNvPr id="400" name=""/>
              <p:cNvSpPr/>
              <p:nvPr/>
            </p:nvSpPr>
            <p:spPr>
              <a:xfrm>
                <a:off x="5449680" y="4779720"/>
                <a:ext cx="10242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1640" y="4779720"/>
                <a:ext cx="11602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541920" y="4779720"/>
              <a:ext cx="955800" cy="682560"/>
              <a:chOff x="6541920" y="4779720"/>
              <a:chExt cx="955800" cy="682560"/>
            </a:xfrm>
          </p:grpSpPr>
          <p:sp>
            <p:nvSpPr>
              <p:cNvPr id="403" name=""/>
              <p:cNvSpPr/>
              <p:nvPr/>
            </p:nvSpPr>
            <p:spPr>
              <a:xfrm>
                <a:off x="6610320" y="4779720"/>
                <a:ext cx="8190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4 to 0.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41920" y="4779720"/>
                <a:ext cx="9558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497720" y="4779720"/>
              <a:ext cx="1184400" cy="682560"/>
              <a:chOff x="7497720" y="4779720"/>
              <a:chExt cx="1184400" cy="682560"/>
            </a:xfrm>
          </p:grpSpPr>
          <p:sp>
            <p:nvSpPr>
              <p:cNvPr id="406" name=""/>
              <p:cNvSpPr/>
              <p:nvPr/>
            </p:nvSpPr>
            <p:spPr>
              <a:xfrm>
                <a:off x="7565760" y="4779720"/>
                <a:ext cx="104796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497720" y="4779720"/>
                <a:ext cx="11844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085760" y="5462280"/>
              <a:ext cx="1393920" cy="571320"/>
              <a:chOff x="1085760" y="5462280"/>
              <a:chExt cx="1393920" cy="571320"/>
            </a:xfrm>
          </p:grpSpPr>
          <p:sp>
            <p:nvSpPr>
              <p:cNvPr id="409" name=""/>
              <p:cNvSpPr/>
              <p:nvPr/>
            </p:nvSpPr>
            <p:spPr>
              <a:xfrm>
                <a:off x="1154160" y="5462280"/>
                <a:ext cx="12571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ther ligand transfer reaction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85760" y="5462280"/>
                <a:ext cx="139392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479680" y="5462280"/>
              <a:ext cx="1793880" cy="571320"/>
              <a:chOff x="2479680" y="5462280"/>
              <a:chExt cx="1793880" cy="571320"/>
            </a:xfrm>
          </p:grpSpPr>
          <p:sp>
            <p:nvSpPr>
              <p:cNvPr id="412" name=""/>
              <p:cNvSpPr/>
              <p:nvPr/>
            </p:nvSpPr>
            <p:spPr>
              <a:xfrm>
                <a:off x="2547720" y="5462280"/>
                <a:ext cx="16574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 +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x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9680" y="5462280"/>
                <a:ext cx="17938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273560" y="5462280"/>
              <a:ext cx="1108080" cy="571320"/>
              <a:chOff x="4273560" y="5462280"/>
              <a:chExt cx="1108080" cy="571320"/>
            </a:xfrm>
          </p:grpSpPr>
          <p:sp>
            <p:nvSpPr>
              <p:cNvPr id="415" name=""/>
              <p:cNvSpPr/>
              <p:nvPr/>
            </p:nvSpPr>
            <p:spPr>
              <a:xfrm>
                <a:off x="4341600" y="5462280"/>
                <a:ext cx="9716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50 or mo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73560" y="5462280"/>
                <a:ext cx="11080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381640" y="5462280"/>
              <a:ext cx="1160280" cy="571320"/>
              <a:chOff x="5381640" y="5462280"/>
              <a:chExt cx="1160280" cy="571320"/>
            </a:xfrm>
          </p:grpSpPr>
          <p:sp>
            <p:nvSpPr>
              <p:cNvPr id="418" name=""/>
              <p:cNvSpPr/>
              <p:nvPr/>
            </p:nvSpPr>
            <p:spPr>
              <a:xfrm>
                <a:off x="5449680" y="5462280"/>
                <a:ext cx="102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81640" y="5462280"/>
                <a:ext cx="11602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541920" y="5462280"/>
              <a:ext cx="955800" cy="571320"/>
              <a:chOff x="6541920" y="5462280"/>
              <a:chExt cx="955800" cy="571320"/>
            </a:xfrm>
          </p:grpSpPr>
          <p:sp>
            <p:nvSpPr>
              <p:cNvPr id="421" name=""/>
              <p:cNvSpPr/>
              <p:nvPr/>
            </p:nvSpPr>
            <p:spPr>
              <a:xfrm>
                <a:off x="6610320" y="5462280"/>
                <a:ext cx="8190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3 to 0.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41920" y="5462280"/>
                <a:ext cx="95580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497720" y="5462280"/>
              <a:ext cx="1184400" cy="571320"/>
              <a:chOff x="7497720" y="5462280"/>
              <a:chExt cx="1184400" cy="571320"/>
            </a:xfrm>
          </p:grpSpPr>
          <p:sp>
            <p:nvSpPr>
              <p:cNvPr id="424" name=""/>
              <p:cNvSpPr/>
              <p:nvPr/>
            </p:nvSpPr>
            <p:spPr>
              <a:xfrm>
                <a:off x="7565760" y="5462280"/>
                <a:ext cx="10479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97720" y="5462280"/>
                <a:ext cx="118440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0" y="8265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164-A15C-43E9-9519-0AC841DCAE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a=7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a=43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4F3-AD4E-4723-AADE-B63AD7B9F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 for other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40 kT for sid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lculate minimum temperature for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any other steps which follow the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C3B-4C95-468A-B000-2DE67B5303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ore Complex Cases: Additional Reaction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asses o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 Transfer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a-sc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ization Reactions (5-cen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l the same rules app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1BC-5F24-4090-89E7-91D5C54AB4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e Complex Examples: Need To Reduce Number Of Species Considered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ied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feasible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ll feasible reactions of radicals produced in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generating reactions until I get to desir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reaction follows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98600" y="5659560"/>
            <a:ext cx="58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mated mechanis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50F-6BF4-4D34-9735-01CD2DC84E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feasible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ll feasible reactions of radicals produced in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generating reactions until I get to desir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reaction follows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98600" y="5659560"/>
            <a:ext cx="58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mated mechanis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896-9B0F-472A-A5D2-7B8F6CD0D2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itiation step: weakest bond breaks in the reactant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42120" y="22478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9080" y="22478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56200" y="2798640"/>
            <a:ext cx="539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8160" y="188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9400" y="253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323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98680" y="188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253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43240" y="323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167440" y="2188800"/>
            <a:ext cx="263520" cy="22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699000" y="2300400"/>
            <a:ext cx="193680" cy="193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352680" y="2813040"/>
            <a:ext cx="331920" cy="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642840" y="3062160"/>
            <a:ext cx="235080" cy="3333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08480" y="2786040"/>
            <a:ext cx="333360" cy="55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97600" y="3159000"/>
            <a:ext cx="236520" cy="3333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6760" y="4008600"/>
            <a:ext cx="17215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9 kcal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4487760" y="2882880"/>
            <a:ext cx="222480" cy="1122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9200" y="1405080"/>
            <a:ext cx="18907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2 kcal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7080" y="1816200"/>
            <a:ext cx="387360" cy="41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32640" y="5126040"/>
            <a:ext cx="41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0" y="5200560"/>
            <a:ext cx="3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5828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3400" y="52005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30240" y="5200560"/>
            <a:ext cx="3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2148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8332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6288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146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3364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4940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93240" y="5126040"/>
            <a:ext cx="29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54920" y="512604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46960" y="512604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04080" y="5126040"/>
            <a:ext cx="29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20160" y="4702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on step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0DB-6F59-4332-9EDB-C18887963E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3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ssible mechanism for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019240" y="2057400"/>
            <a:ext cx="5711760" cy="3132000"/>
            <a:chOff x="2019240" y="2057400"/>
            <a:chExt cx="5711760" cy="3132000"/>
          </a:xfrm>
        </p:grpSpPr>
        <p:sp>
          <p:nvSpPr>
            <p:cNvPr id="477" name=""/>
            <p:cNvSpPr/>
            <p:nvPr/>
          </p:nvSpPr>
          <p:spPr>
            <a:xfrm>
              <a:off x="2019240" y="2057400"/>
              <a:ext cx="5711760" cy="3132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2086920" y="2139840"/>
              <a:ext cx="5292360" cy="2851920"/>
              <a:chOff x="2086920" y="2139840"/>
              <a:chExt cx="5292360" cy="2851920"/>
            </a:xfrm>
          </p:grpSpPr>
          <p:sp>
            <p:nvSpPr>
              <p:cNvPr id="479" name=""/>
              <p:cNvSpPr/>
              <p:nvPr/>
            </p:nvSpPr>
            <p:spPr>
              <a:xfrm>
                <a:off x="4693320" y="213984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88280" y="2187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9828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22800" y="2187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02160" y="2187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2332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86776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3828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80800" y="21528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6656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1100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76960" y="21398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63640" y="21686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91920" y="21398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09440" y="272412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7632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0960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5544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72800" y="27367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7300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2572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6804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3164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5880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0608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2652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8212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22948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921640" y="27525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88720" y="27241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91600" y="27241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86920" y="27525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18920" y="330840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42320" y="33559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338880" y="33559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5860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0908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11560" y="33559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0428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6924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0724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5700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96680" y="33228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4896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1572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244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27240" y="332280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4196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0384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51440" y="33368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52920" y="38926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73668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351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271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17360" y="3903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395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5848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3484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680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70440" y="3933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3768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5340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692440" y="3933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76320" y="38926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270400" y="38926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30560" y="38926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991240" y="392112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18880" y="44434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8272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3184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98440" y="44560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1248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4416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9040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11520" y="449100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7104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40280" y="44910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300560" y="4443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36400" y="44434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74920" y="33336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B53-CA3A-4E89-8233-723EE46E7E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3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oes the Mechanism Fit All of the Rules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22400" y="4797360"/>
            <a:ext cx="78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ram the mechanism, estimate the activation barrier for each step and ask whether the mechanism follows th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720" y="45226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019240" y="1384200"/>
            <a:ext cx="5711760" cy="3132000"/>
            <a:chOff x="2019240" y="1384200"/>
            <a:chExt cx="5711760" cy="3132000"/>
          </a:xfrm>
        </p:grpSpPr>
        <p:sp>
          <p:nvSpPr>
            <p:cNvPr id="563" name=""/>
            <p:cNvSpPr/>
            <p:nvPr/>
          </p:nvSpPr>
          <p:spPr>
            <a:xfrm>
              <a:off x="2019240" y="1384200"/>
              <a:ext cx="5711760" cy="3132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086920" y="1466640"/>
              <a:ext cx="5292360" cy="2851920"/>
              <a:chOff x="2086920" y="1466640"/>
              <a:chExt cx="5292360" cy="2851920"/>
            </a:xfrm>
          </p:grpSpPr>
          <p:sp>
            <p:nvSpPr>
              <p:cNvPr id="565" name=""/>
              <p:cNvSpPr/>
              <p:nvPr/>
            </p:nvSpPr>
            <p:spPr>
              <a:xfrm>
                <a:off x="4693320" y="146664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88280" y="15145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9828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22800" y="15145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02160" y="15145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2332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6776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3828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780800" y="1479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6656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1100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76960" y="14666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63640" y="14954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91920" y="14666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09440" y="205092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7632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0960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5544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672800" y="2063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7300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2572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76804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73164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5880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0608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2652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8212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2948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921640" y="20793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688720" y="20509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91600" y="20509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86920" y="20793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318920" y="263520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042320" y="2682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338880" y="2682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5860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908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111560" y="2682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0428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6924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0724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15700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96680" y="2649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4896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1572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3244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627240" y="264960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4196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0384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51440" y="26636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552920" y="32194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668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1351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1271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17360" y="3230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395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5848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3484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70440" y="32605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93768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5340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692440" y="32605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6320" y="32194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70400" y="3219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30560" y="3219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91240" y="324792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18880" y="37702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8272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3184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98440" y="3782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1248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74416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9040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1520" y="381780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37104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140280" y="38178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00560" y="37702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136400" y="37702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74920" y="26604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07F-36A3-4CED-85A1-E88CC6B2CB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8800" y="304560"/>
            <a:ext cx="7870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We Know How to Calculat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ny saf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711-86E7-4A6C-8B32-174A26495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lution I: Diagram Mechan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285920" y="917640"/>
          <a:ext cx="6948360" cy="54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17640"/>
                    <a:ext cx="69483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22B-F093-4CC2-8C8E-2737DF1170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lution II: Estimate activation barrier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348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596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316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2192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8876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00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21560" y="135108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2044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0612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0108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792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920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91560" y="13161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1640" y="13161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31616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38680" y="13161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59760" y="13161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81160" y="1843200"/>
            <a:ext cx="405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imate heat of re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69680" y="746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21040" y="75888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40080" y="75888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67920" y="746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33480" y="746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06240" y="90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29960" y="922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32920" y="934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6560" y="68580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34280" y="4048200"/>
            <a:ext cx="110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3760" y="44006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7600" y="45514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14120" y="439092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3040" y="5067360"/>
            <a:ext cx="74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Use Blowers -Masel to Estimate Activation B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35680" y="5538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35560" y="5538960"/>
            <a:ext cx="2264040" cy="402120"/>
            <a:chOff x="4435560" y="5538960"/>
            <a:chExt cx="2264040" cy="402120"/>
          </a:xfrm>
        </p:grpSpPr>
        <p:sp>
          <p:nvSpPr>
            <p:cNvPr id="683" name=""/>
            <p:cNvSpPr/>
            <p:nvPr/>
          </p:nvSpPr>
          <p:spPr>
            <a:xfrm>
              <a:off x="4435560" y="5538960"/>
              <a:ext cx="226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  = 8.7 kcal/m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13120" y="5727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828800" y="2246400"/>
            <a:ext cx="6019920" cy="2684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92560" y="4414680"/>
            <a:ext cx="51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-17.9 +28.4 -34.8 -(-20.0) = -4.3 kcal/m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3440" y="70812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28.4 kcal/m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926720" y="2754360"/>
            <a:ext cx="3430080" cy="428040"/>
            <a:chOff x="1926720" y="2754360"/>
            <a:chExt cx="3430080" cy="428040"/>
          </a:xfrm>
        </p:grpSpPr>
        <p:sp>
          <p:nvSpPr>
            <p:cNvPr id="689" name=""/>
            <p:cNvSpPr/>
            <p:nvPr/>
          </p:nvSpPr>
          <p:spPr>
            <a:xfrm>
              <a:off x="2984760" y="2763720"/>
              <a:ext cx="12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6720" y="2759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54880" y="2754360"/>
              <a:ext cx="3301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+34.8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26720" y="3159000"/>
            <a:ext cx="3305520" cy="428040"/>
            <a:chOff x="1926720" y="3159000"/>
            <a:chExt cx="3305520" cy="428040"/>
          </a:xfrm>
        </p:grpSpPr>
        <p:sp>
          <p:nvSpPr>
            <p:cNvPr id="693" name=""/>
            <p:cNvSpPr/>
            <p:nvPr/>
          </p:nvSpPr>
          <p:spPr>
            <a:xfrm>
              <a:off x="1926720" y="31636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47680" y="3159000"/>
              <a:ext cx="3184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-17.9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926720" y="2351160"/>
            <a:ext cx="3804480" cy="428040"/>
            <a:chOff x="1926720" y="2351160"/>
            <a:chExt cx="3804480" cy="428040"/>
          </a:xfrm>
        </p:grpSpPr>
        <p:sp>
          <p:nvSpPr>
            <p:cNvPr id="696" name=""/>
            <p:cNvSpPr/>
            <p:nvPr/>
          </p:nvSpPr>
          <p:spPr>
            <a:xfrm>
              <a:off x="1926720" y="2355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54520" y="2351160"/>
              <a:ext cx="36766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-20.0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926720" y="3564000"/>
            <a:ext cx="4078440" cy="434160"/>
            <a:chOff x="1926720" y="3564000"/>
            <a:chExt cx="4078440" cy="434160"/>
          </a:xfrm>
        </p:grpSpPr>
        <p:sp>
          <p:nvSpPr>
            <p:cNvPr id="699" name=""/>
            <p:cNvSpPr/>
            <p:nvPr/>
          </p:nvSpPr>
          <p:spPr>
            <a:xfrm>
              <a:off x="2588040" y="3564000"/>
              <a:ext cx="12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26720" y="35751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54520" y="3570120"/>
              <a:ext cx="39506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   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+28.4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556320" y="2697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rom NIST Webbo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FEE-B0EA-45CE-9DE7-9D060FF770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s that a low enough activation energy? 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128600" y="1400040"/>
            <a:ext cx="769644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steps must satis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low enough if temperature high 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27440" y="519912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Calculate feasibl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emperat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71A-8CE1-4405-860A-FBB4FF5B61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oes Another Reaction Occur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757520" y="1947960"/>
            <a:ext cx="5784120" cy="832320"/>
            <a:chOff x="1757520" y="1947960"/>
            <a:chExt cx="5784120" cy="832320"/>
          </a:xfrm>
        </p:grpSpPr>
        <p:sp>
          <p:nvSpPr>
            <p:cNvPr id="709" name=""/>
            <p:cNvSpPr/>
            <p:nvPr/>
          </p:nvSpPr>
          <p:spPr>
            <a:xfrm>
              <a:off x="4485240" y="1947960"/>
              <a:ext cx="45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10880" y="1947960"/>
              <a:ext cx="23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30000" y="19479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11280" y="19479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3920" y="1947960"/>
              <a:ext cx="23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876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1428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88200" y="1965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440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7608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732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8132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1224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716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7520" y="2010600"/>
              <a:ext cx="404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444680" y="4499640"/>
            <a:ext cx="63802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tep does not satisfy criterion: rate neglig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3480" y="3313080"/>
            <a:ext cx="29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37.48 Kcal/m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922120" y="3327480"/>
            <a:ext cx="310320" cy="402120"/>
            <a:chOff x="2922120" y="3327480"/>
            <a:chExt cx="310320" cy="402120"/>
          </a:xfrm>
        </p:grpSpPr>
        <p:sp>
          <p:nvSpPr>
            <p:cNvPr id="727" name=""/>
            <p:cNvSpPr/>
            <p:nvPr/>
          </p:nvSpPr>
          <p:spPr>
            <a:xfrm>
              <a:off x="2922120" y="33274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03560" y="351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4D4-17CC-4F73-BD25-486E4CB953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143000" y="137160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generic reaction typ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steps must satisf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 &lt; 70 kT for initiation 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d other steps that satisfy constra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at Are Side Reactions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E58-5876-48B7-B248-CDEBB552E9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ridge to catalysi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43000" y="1020240"/>
            <a:ext cx="7772400" cy="514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also work 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ers-Masel works On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a possible catalyst (try all  me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f reaction changes because catalyst binds intermed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emperature where all criterion 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temp is best catalyst - need to also check side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work on acid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new rat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2E-1D07-4D44-95FD-270FC43C94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8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edict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edict process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results to predict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4E5-C7B7-46DD-B712-2B29861C3F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8800" y="304560"/>
            <a:ext cx="7870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is Work Give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af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ix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832-AABE-4C61-A151-B73EB1C0A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ur Approach to Predict Process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hemistry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&amp; Condition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ules for what reactions can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pproximations for 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findings as a way to quantify process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e the results for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72D-DE80-41BE-81FA-569813BBC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ules for mechanisms: Most practical mechanisms must hav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est bond in reactants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generic reac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ion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05520" y="1371600"/>
            <a:ext cx="3733560" cy="2666880"/>
            <a:chOff x="5105520" y="1371600"/>
            <a:chExt cx="3733560" cy="2666880"/>
          </a:xfrm>
        </p:grpSpPr>
        <p:sp>
          <p:nvSpPr>
            <p:cNvPr id="169" name=""/>
            <p:cNvSpPr/>
            <p:nvPr/>
          </p:nvSpPr>
          <p:spPr>
            <a:xfrm>
              <a:off x="5105520" y="1371600"/>
              <a:ext cx="3733560" cy="266688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2209680"/>
              <a:ext cx="1447560" cy="14472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17680" y="20998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83920" y="3501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05680" y="2228760"/>
              <a:ext cx="577800" cy="1404360"/>
            </a:xfrm>
            <a:custGeom>
              <a:avLst/>
              <a:gdLst/>
              <a:ahLst/>
              <a:rect l="l" t="t" r="r" b="b"/>
              <a:pathLst>
                <a:path w="709" h="1769">
                  <a:moveTo>
                    <a:pt x="71" y="1769"/>
                  </a:moveTo>
                  <a:lnTo>
                    <a:pt x="188" y="1710"/>
                  </a:lnTo>
                  <a:lnTo>
                    <a:pt x="297" y="1639"/>
                  </a:lnTo>
                  <a:lnTo>
                    <a:pt x="396" y="1561"/>
                  </a:lnTo>
                  <a:lnTo>
                    <a:pt x="482" y="1474"/>
                  </a:lnTo>
                  <a:lnTo>
                    <a:pt x="556" y="1379"/>
                  </a:lnTo>
                  <a:lnTo>
                    <a:pt x="617" y="1278"/>
                  </a:lnTo>
                  <a:lnTo>
                    <a:pt x="662" y="1175"/>
                  </a:lnTo>
                  <a:lnTo>
                    <a:pt x="692" y="1065"/>
                  </a:lnTo>
                  <a:lnTo>
                    <a:pt x="709" y="955"/>
                  </a:lnTo>
                  <a:lnTo>
                    <a:pt x="709" y="843"/>
                  </a:lnTo>
                  <a:lnTo>
                    <a:pt x="692" y="731"/>
                  </a:lnTo>
                  <a:lnTo>
                    <a:pt x="662" y="622"/>
                  </a:lnTo>
                  <a:lnTo>
                    <a:pt x="617" y="517"/>
                  </a:lnTo>
                  <a:lnTo>
                    <a:pt x="556" y="417"/>
                  </a:lnTo>
                  <a:lnTo>
                    <a:pt x="482" y="322"/>
                  </a:lnTo>
                  <a:lnTo>
                    <a:pt x="395" y="235"/>
                  </a:lnTo>
                  <a:lnTo>
                    <a:pt x="297" y="15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8960" y="2209680"/>
              <a:ext cx="236880" cy="158400"/>
            </a:xfrm>
            <a:custGeom>
              <a:avLst/>
              <a:gdLst/>
              <a:ahLst/>
              <a:rect l="l" t="t" r="r" b="b"/>
              <a:pathLst>
                <a:path w="290" h="199">
                  <a:moveTo>
                    <a:pt x="222" y="199"/>
                  </a:moveTo>
                  <a:lnTo>
                    <a:pt x="0" y="0"/>
                  </a:lnTo>
                  <a:lnTo>
                    <a:pt x="290" y="71"/>
                  </a:lnTo>
                  <a:lnTo>
                    <a:pt x="222" y="199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3200" y="2228760"/>
              <a:ext cx="576000" cy="1404360"/>
            </a:xfrm>
            <a:custGeom>
              <a:avLst/>
              <a:gdLst/>
              <a:ahLst/>
              <a:rect l="l" t="t" r="r" b="b"/>
              <a:pathLst>
                <a:path w="710" h="1769">
                  <a:moveTo>
                    <a:pt x="639" y="1769"/>
                  </a:moveTo>
                  <a:lnTo>
                    <a:pt x="521" y="1710"/>
                  </a:lnTo>
                  <a:lnTo>
                    <a:pt x="412" y="1639"/>
                  </a:lnTo>
                  <a:lnTo>
                    <a:pt x="314" y="1561"/>
                  </a:lnTo>
                  <a:lnTo>
                    <a:pt x="227" y="1474"/>
                  </a:lnTo>
                  <a:lnTo>
                    <a:pt x="154" y="1379"/>
                  </a:lnTo>
                  <a:lnTo>
                    <a:pt x="93" y="1278"/>
                  </a:lnTo>
                  <a:lnTo>
                    <a:pt x="48" y="1175"/>
                  </a:lnTo>
                  <a:lnTo>
                    <a:pt x="16" y="1065"/>
                  </a:lnTo>
                  <a:lnTo>
                    <a:pt x="0" y="955"/>
                  </a:lnTo>
                  <a:lnTo>
                    <a:pt x="0" y="843"/>
                  </a:lnTo>
                  <a:lnTo>
                    <a:pt x="16" y="731"/>
                  </a:lnTo>
                  <a:lnTo>
                    <a:pt x="48" y="622"/>
                  </a:lnTo>
                  <a:lnTo>
                    <a:pt x="93" y="517"/>
                  </a:lnTo>
                  <a:lnTo>
                    <a:pt x="154" y="417"/>
                  </a:lnTo>
                  <a:lnTo>
                    <a:pt x="229" y="322"/>
                  </a:lnTo>
                  <a:lnTo>
                    <a:pt x="315" y="235"/>
                  </a:lnTo>
                  <a:lnTo>
                    <a:pt x="412" y="156"/>
                  </a:lnTo>
                  <a:lnTo>
                    <a:pt x="71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67600" y="2209680"/>
              <a:ext cx="238320" cy="158400"/>
            </a:xfrm>
            <a:custGeom>
              <a:avLst/>
              <a:gdLst/>
              <a:ahLst/>
              <a:rect l="l" t="t" r="r" b="b"/>
              <a:pathLst>
                <a:path w="291" h="199">
                  <a:moveTo>
                    <a:pt x="0" y="71"/>
                  </a:moveTo>
                  <a:lnTo>
                    <a:pt x="291" y="0"/>
                  </a:lnTo>
                  <a:lnTo>
                    <a:pt x="67" y="1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4240" y="2239560"/>
              <a:ext cx="579240" cy="1404720"/>
            </a:xfrm>
            <a:custGeom>
              <a:avLst/>
              <a:gdLst/>
              <a:ahLst/>
              <a:rect l="l" t="t" r="r" b="b"/>
              <a:pathLst>
                <a:path w="712" h="1770">
                  <a:moveTo>
                    <a:pt x="73" y="0"/>
                  </a:moveTo>
                  <a:lnTo>
                    <a:pt x="190" y="60"/>
                  </a:lnTo>
                  <a:lnTo>
                    <a:pt x="299" y="128"/>
                  </a:lnTo>
                  <a:lnTo>
                    <a:pt x="397" y="208"/>
                  </a:lnTo>
                  <a:lnTo>
                    <a:pt x="485" y="295"/>
                  </a:lnTo>
                  <a:lnTo>
                    <a:pt x="558" y="391"/>
                  </a:lnTo>
                  <a:lnTo>
                    <a:pt x="617" y="490"/>
                  </a:lnTo>
                  <a:lnTo>
                    <a:pt x="664" y="595"/>
                  </a:lnTo>
                  <a:lnTo>
                    <a:pt x="695" y="704"/>
                  </a:lnTo>
                  <a:lnTo>
                    <a:pt x="712" y="816"/>
                  </a:lnTo>
                  <a:lnTo>
                    <a:pt x="712" y="926"/>
                  </a:lnTo>
                  <a:lnTo>
                    <a:pt x="695" y="1039"/>
                  </a:lnTo>
                  <a:lnTo>
                    <a:pt x="664" y="1147"/>
                  </a:lnTo>
                  <a:lnTo>
                    <a:pt x="617" y="1252"/>
                  </a:lnTo>
                  <a:lnTo>
                    <a:pt x="558" y="1353"/>
                  </a:lnTo>
                  <a:lnTo>
                    <a:pt x="484" y="1447"/>
                  </a:lnTo>
                  <a:lnTo>
                    <a:pt x="397" y="1533"/>
                  </a:lnTo>
                  <a:lnTo>
                    <a:pt x="299" y="1613"/>
                  </a:lnTo>
                  <a:lnTo>
                    <a:pt x="0" y="17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29320" y="3504960"/>
              <a:ext cx="235080" cy="158400"/>
            </a:xfrm>
            <a:custGeom>
              <a:avLst/>
              <a:gdLst/>
              <a:ahLst/>
              <a:rect l="l" t="t" r="r" b="b"/>
              <a:pathLst>
                <a:path w="289" h="198">
                  <a:moveTo>
                    <a:pt x="289" y="128"/>
                  </a:moveTo>
                  <a:lnTo>
                    <a:pt x="0" y="198"/>
                  </a:lnTo>
                  <a:lnTo>
                    <a:pt x="222" y="0"/>
                  </a:lnTo>
                  <a:lnTo>
                    <a:pt x="289" y="128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54640" y="2239560"/>
              <a:ext cx="577800" cy="1404720"/>
            </a:xfrm>
            <a:custGeom>
              <a:avLst/>
              <a:gdLst/>
              <a:ahLst/>
              <a:rect l="l" t="t" r="r" b="b"/>
              <a:pathLst>
                <a:path w="710" h="1770">
                  <a:moveTo>
                    <a:pt x="639" y="0"/>
                  </a:moveTo>
                  <a:lnTo>
                    <a:pt x="520" y="60"/>
                  </a:lnTo>
                  <a:lnTo>
                    <a:pt x="412" y="128"/>
                  </a:lnTo>
                  <a:lnTo>
                    <a:pt x="314" y="208"/>
                  </a:lnTo>
                  <a:lnTo>
                    <a:pt x="228" y="295"/>
                  </a:lnTo>
                  <a:lnTo>
                    <a:pt x="152" y="391"/>
                  </a:lnTo>
                  <a:lnTo>
                    <a:pt x="93" y="490"/>
                  </a:lnTo>
                  <a:lnTo>
                    <a:pt x="48" y="595"/>
                  </a:lnTo>
                  <a:lnTo>
                    <a:pt x="15" y="704"/>
                  </a:lnTo>
                  <a:lnTo>
                    <a:pt x="0" y="816"/>
                  </a:lnTo>
                  <a:lnTo>
                    <a:pt x="0" y="926"/>
                  </a:lnTo>
                  <a:lnTo>
                    <a:pt x="15" y="1039"/>
                  </a:lnTo>
                  <a:lnTo>
                    <a:pt x="48" y="1147"/>
                  </a:lnTo>
                  <a:lnTo>
                    <a:pt x="93" y="1252"/>
                  </a:lnTo>
                  <a:lnTo>
                    <a:pt x="152" y="1353"/>
                  </a:lnTo>
                  <a:lnTo>
                    <a:pt x="228" y="1447"/>
                  </a:lnTo>
                  <a:lnTo>
                    <a:pt x="315" y="1533"/>
                  </a:lnTo>
                  <a:lnTo>
                    <a:pt x="412" y="1613"/>
                  </a:lnTo>
                  <a:lnTo>
                    <a:pt x="710" y="17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0840" y="3504960"/>
              <a:ext cx="236520" cy="158400"/>
            </a:xfrm>
            <a:custGeom>
              <a:avLst/>
              <a:gdLst/>
              <a:ahLst/>
              <a:rect l="l" t="t" r="r" b="b"/>
              <a:pathLst>
                <a:path w="291" h="198">
                  <a:moveTo>
                    <a:pt x="69" y="0"/>
                  </a:moveTo>
                  <a:lnTo>
                    <a:pt x="291" y="198"/>
                  </a:lnTo>
                  <a:lnTo>
                    <a:pt x="0" y="12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0" y="205704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19520" y="35017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45240" y="3700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6720" y="349056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45720" y="20746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11320" y="228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7400" y="14936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51320" y="1604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1728720"/>
              <a:ext cx="57240" cy="404280"/>
            </a:xfrm>
            <a:custGeom>
              <a:avLst/>
              <a:gdLst/>
              <a:ahLst/>
              <a:rect l="l" t="t" r="r" b="b"/>
              <a:pathLst>
                <a:path w="69" h="511">
                  <a:moveTo>
                    <a:pt x="69" y="0"/>
                  </a:moveTo>
                  <a:lnTo>
                    <a:pt x="69" y="511"/>
                  </a:lnTo>
                  <a:lnTo>
                    <a:pt x="0" y="369"/>
                  </a:lnTo>
                  <a:lnTo>
                    <a:pt x="59" y="369"/>
                  </a:lnTo>
                  <a:lnTo>
                    <a:pt x="5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3920" y="1752480"/>
              <a:ext cx="57240" cy="406080"/>
            </a:xfrm>
            <a:custGeom>
              <a:avLst/>
              <a:gdLst/>
              <a:ahLst/>
              <a:rect l="l" t="t" r="r" b="b"/>
              <a:pathLst>
                <a:path w="69" h="512">
                  <a:moveTo>
                    <a:pt x="0" y="512"/>
                  </a:moveTo>
                  <a:lnTo>
                    <a:pt x="0" y="0"/>
                  </a:lnTo>
                  <a:lnTo>
                    <a:pt x="69" y="148"/>
                  </a:lnTo>
                  <a:lnTo>
                    <a:pt x="10" y="148"/>
                  </a:lnTo>
                  <a:lnTo>
                    <a:pt x="1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143000" y="441972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876920"/>
            <a:ext cx="190512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Ti Lee's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A57-DC65-414B-B7C6-DFD8F94D8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complete method for mechanism prediction 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species a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,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list of all possible reactions of those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which reactions must b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reactions which are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FE3-79E0-4896-B7FF-33149998B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Br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466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H, Br, H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Br  only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Initi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7B3-7AE1-40D8-8385-94A8C53AFD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Br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0094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center reactions (Fl, Cl excep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s without collis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D7E-2B47-4032-86FB-48D961F901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2:22:52Z</dcterms:created>
  <dc:creator>Rich Masel</dc:creator>
  <dc:description/>
  <dc:language>en-US</dc:language>
  <cp:lastModifiedBy>Rich Masel</cp:lastModifiedBy>
  <dcterms:modified xsi:type="dcterms:W3CDTF">2001-02-20T14:46:16Z</dcterms:modified>
  <cp:revision>16</cp:revision>
  <dc:subject/>
  <dc:title>Engineering Approximations in Chemical Kinetics</dc:title>
</cp:coreProperties>
</file>