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41D5-BFBA-4DB5-AF0D-A0C5F78E4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6F28-5687-446C-88AA-7011C64ADF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644E-AB6E-4089-9F61-5A0975E9C1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743D-764F-45ED-A167-F73E036992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DA56-A18B-479D-B081-3F42686679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7DA3-929D-42B6-9FA7-43A3307BBA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F4CB-C050-49B5-A626-7ED685B6A3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BAFB-EFE3-44C4-A161-A623D3DEB5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F884-EF40-4DD6-B2C7-750B4007D8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2AF0-8CB8-4A79-A1C8-81A432B8B7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52C3-0811-4056-B8E1-2D5CB2A878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4C88-6A4E-4FE6-8BF6-A54637AFB3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AAB9-735B-40D3-942E-35430E78D2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7BD0-14C0-4D05-8CFA-FF2AFB6DA6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9722-1C68-48A5-9693-247FE2D1B8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44FD-06B9-4F53-A39F-9D0E8BF5B5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03F6-F296-44BF-B5F8-078EEE5126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60BC-925C-4B87-9BB1-A554B86565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9267-8750-4012-9D50-148FC6329A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7BFF-1CCB-427D-8386-B7AFE349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EB9-56A8-423B-B172-F4D9EE06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220-380D-4F39-AEB8-BFB877C4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3F21-D92C-4492-921A-808C718A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4D8-92E1-4410-98B3-F86E9A92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4F0-1630-43C2-A148-43088CDD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5388-B43F-40E8-ACFE-05FB1FB9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DD45-D411-4B94-8C5D-45747F7D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F8FA-521F-4219-83CF-9FD9A11C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E25-A9F1-407E-81B3-132F49CF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114D-35B3-4371-8907-9056D89B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4241-DB6B-4B50-B48C-AEB61389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53C1-41AC-41F4-8ABA-8C1033494F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360" y="5719680"/>
            <a:ext cx="481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ease start Visual Paradigm-we’ll use it in class tod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No zip file to download-it’s on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based on activity diagr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19840" cy="47736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67360" y="6019920"/>
            <a:ext cx="829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apper” legacy code: almost all allow Web services to be ad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a few Web services needed per legacy app to interface to 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ass diagram for application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214720" y="1600200"/>
            <a:ext cx="502416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091160" y="5715000"/>
            <a:ext cx="730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ilar classes for car rental, itinerary check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these methods in C#, similar to those on .aspx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 server and its tools handle db, xhtml, xml input/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65880" y="2057400"/>
            <a:ext cx="20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ributes fr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0" name="Straight Arrow Connector 7"/>
          <p:cNvCxnSpPr/>
          <p:nvPr/>
        </p:nvCxnSpPr>
        <p:spPr>
          <a:xfrm flipV="1">
            <a:off x="1904760" y="2285280"/>
            <a:ext cx="1905480" cy="22932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1" name="Straight Arrow Connector 9"/>
          <p:cNvCxnSpPr/>
          <p:nvPr/>
        </p:nvCxnSpPr>
        <p:spPr>
          <a:xfrm>
            <a:off x="1295280" y="2819160"/>
            <a:ext cx="1067760" cy="10674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2" name="Straight Arrow Connector 10"/>
          <p:cNvCxnSpPr/>
          <p:nvPr/>
        </p:nvCxnSpPr>
        <p:spPr>
          <a:xfrm>
            <a:off x="1523880" y="2819520"/>
            <a:ext cx="3734640" cy="8388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3" name="TextBox 12"/>
          <p:cNvSpPr/>
          <p:nvPr/>
        </p:nvSpPr>
        <p:spPr>
          <a:xfrm>
            <a:off x="-11520" y="4495680"/>
            <a:ext cx="228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ods/func 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UML/req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" name="Straight Arrow Connector 13"/>
          <p:cNvCxnSpPr/>
          <p:nvPr/>
        </p:nvCxnSpPr>
        <p:spPr>
          <a:xfrm flipV="1">
            <a:off x="1904760" y="2819160"/>
            <a:ext cx="2362680" cy="17532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5" name="Straight Arrow Connector 15"/>
          <p:cNvCxnSpPr/>
          <p:nvPr/>
        </p:nvCxnSpPr>
        <p:spPr>
          <a:xfrm>
            <a:off x="2057040" y="4876560"/>
            <a:ext cx="610200" cy="1530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6" name="Straight Arrow Connector 19"/>
          <p:cNvCxnSpPr/>
          <p:nvPr/>
        </p:nvCxnSpPr>
        <p:spPr>
          <a:xfrm>
            <a:off x="2133360" y="4800600"/>
            <a:ext cx="3429720" cy="766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7" name="Straight Arrow Connector 7"/>
          <p:cNvCxnSpPr/>
          <p:nvPr/>
        </p:nvCxnSpPr>
        <p:spPr>
          <a:xfrm flipH="1">
            <a:off x="5714640" y="1904040"/>
            <a:ext cx="1829520" cy="114372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8" name="TextBox 5"/>
          <p:cNvSpPr/>
          <p:nvPr/>
        </p:nvSpPr>
        <p:spPr>
          <a:xfrm>
            <a:off x="7193880" y="1523880"/>
            <a:ext cx="20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-to-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ionship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greg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compon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work interface architecture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include the hardware and the software that runs on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chitecture components at server en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80880" y="182880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0880" y="24382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80880" y="31240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03848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97180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464832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40080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37160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04812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4724280" y="487692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47712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7543800" y="5791320"/>
            <a:ext cx="1219320" cy="76176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a 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4952880" y="182880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4952880" y="24382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4952880" y="31240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133720" y="22860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2133720" y="28954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6705720" y="22860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4"/>
          <p:cNvSpPr/>
          <p:nvPr/>
        </p:nvSpPr>
        <p:spPr>
          <a:xfrm flipH="1">
            <a:off x="3809520" y="2209680"/>
            <a:ext cx="114300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5"/>
          <p:cNvSpPr/>
          <p:nvPr/>
        </p:nvSpPr>
        <p:spPr>
          <a:xfrm>
            <a:off x="3809880" y="2057400"/>
            <a:ext cx="1143000" cy="609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6781680" y="28954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3809880" y="2819520"/>
            <a:ext cx="114300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 flipH="1">
            <a:off x="3809520" y="2819520"/>
            <a:ext cx="114300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1905120" y="358128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1905120" y="3809880"/>
            <a:ext cx="5410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3"/>
          <p:cNvSpPr/>
          <p:nvPr/>
        </p:nvSpPr>
        <p:spPr>
          <a:xfrm>
            <a:off x="7315200" y="358128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7"/>
          <p:cNvSpPr/>
          <p:nvPr/>
        </p:nvSpPr>
        <p:spPr>
          <a:xfrm>
            <a:off x="190512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1"/>
          <p:cNvSpPr/>
          <p:nvPr/>
        </p:nvSpPr>
        <p:spPr>
          <a:xfrm>
            <a:off x="380988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5"/>
          <p:cNvSpPr/>
          <p:nvPr/>
        </p:nvSpPr>
        <p:spPr>
          <a:xfrm>
            <a:off x="541008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49"/>
          <p:cNvSpPr/>
          <p:nvPr/>
        </p:nvSpPr>
        <p:spPr>
          <a:xfrm>
            <a:off x="731520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53"/>
          <p:cNvSpPr/>
          <p:nvPr/>
        </p:nvSpPr>
        <p:spPr>
          <a:xfrm>
            <a:off x="190512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57"/>
          <p:cNvSpPr/>
          <p:nvPr/>
        </p:nvSpPr>
        <p:spPr>
          <a:xfrm>
            <a:off x="380988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61"/>
          <p:cNvSpPr/>
          <p:nvPr/>
        </p:nvSpPr>
        <p:spPr>
          <a:xfrm>
            <a:off x="541008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65"/>
          <p:cNvSpPr/>
          <p:nvPr/>
        </p:nvSpPr>
        <p:spPr>
          <a:xfrm>
            <a:off x="7315200" y="533412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9"/>
          <p:cNvSpPr/>
          <p:nvPr/>
        </p:nvSpPr>
        <p:spPr>
          <a:xfrm rot="16215000">
            <a:off x="-228240" y="441900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70"/>
          <p:cNvSpPr/>
          <p:nvPr/>
        </p:nvSpPr>
        <p:spPr>
          <a:xfrm rot="16215000">
            <a:off x="7848360" y="434304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71"/>
          <p:cNvSpPr/>
          <p:nvPr/>
        </p:nvSpPr>
        <p:spPr>
          <a:xfrm>
            <a:off x="2971800" y="1066680"/>
            <a:ext cx="2895480" cy="533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72"/>
          <p:cNvSpPr/>
          <p:nvPr/>
        </p:nvSpPr>
        <p:spPr>
          <a:xfrm flipH="1">
            <a:off x="2209680" y="1447920"/>
            <a:ext cx="91440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73"/>
          <p:cNvSpPr/>
          <p:nvPr/>
        </p:nvSpPr>
        <p:spPr>
          <a:xfrm>
            <a:off x="5638680" y="1447920"/>
            <a:ext cx="106704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75"/>
          <p:cNvSpPr/>
          <p:nvPr/>
        </p:nvSpPr>
        <p:spPr>
          <a:xfrm>
            <a:off x="3809880" y="205740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76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77"/>
          <p:cNvSpPr/>
          <p:nvPr/>
        </p:nvSpPr>
        <p:spPr>
          <a:xfrm>
            <a:off x="3809880" y="335268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78"/>
          <p:cNvSpPr/>
          <p:nvPr/>
        </p:nvSpPr>
        <p:spPr>
          <a:xfrm>
            <a:off x="3809880" y="38098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79"/>
          <p:cNvSpPr/>
          <p:nvPr/>
        </p:nvSpPr>
        <p:spPr>
          <a:xfrm>
            <a:off x="5410080" y="38098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80"/>
          <p:cNvSpPr/>
          <p:nvPr/>
        </p:nvSpPr>
        <p:spPr>
          <a:xfrm>
            <a:off x="1905120" y="4667400"/>
            <a:ext cx="5410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81"/>
          <p:cNvSpPr/>
          <p:nvPr/>
        </p:nvSpPr>
        <p:spPr>
          <a:xfrm>
            <a:off x="1905120" y="5562720"/>
            <a:ext cx="63244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2"/>
          <p:cNvSpPr/>
          <p:nvPr/>
        </p:nvSpPr>
        <p:spPr>
          <a:xfrm>
            <a:off x="8229600" y="5562720"/>
            <a:ext cx="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84"/>
          <p:cNvSpPr/>
          <p:nvPr/>
        </p:nvSpPr>
        <p:spPr>
          <a:xfrm>
            <a:off x="1371600" y="57913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85"/>
          <p:cNvSpPr/>
          <p:nvPr/>
        </p:nvSpPr>
        <p:spPr>
          <a:xfrm>
            <a:off x="3048120" y="57913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86"/>
          <p:cNvSpPr/>
          <p:nvPr/>
        </p:nvSpPr>
        <p:spPr>
          <a:xfrm>
            <a:off x="4724280" y="579132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89"/>
          <p:cNvSpPr/>
          <p:nvPr/>
        </p:nvSpPr>
        <p:spPr>
          <a:xfrm>
            <a:off x="6400800" y="5791320"/>
            <a:ext cx="99072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90"/>
          <p:cNvSpPr/>
          <p:nvPr/>
        </p:nvSpPr>
        <p:spPr>
          <a:xfrm>
            <a:off x="7422120" y="6496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00s of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91"/>
          <p:cNvSpPr/>
          <p:nvPr/>
        </p:nvSpPr>
        <p:spPr>
          <a:xfrm>
            <a:off x="6858000" y="556272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SystemArchitecture"/>
          <p:cNvPicPr/>
          <p:nvPr/>
        </p:nvPicPr>
        <p:blipFill>
          <a:blip r:embed="rId1"/>
          <a:stretch/>
        </p:blipFill>
        <p:spPr>
          <a:xfrm>
            <a:off x="1808280" y="1143000"/>
            <a:ext cx="5659200" cy="54864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6400800" y="1143000"/>
            <a:ext cx="10666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mple example of system hardwar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uter, firewall, load balanc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 routes IP (TCP/IP and UDP/IP)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table: send packet to local machine or to another 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 examines all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s IP address,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racts contents from all Internet protocols if suspici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 sends HTTP packets to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lances based on HTTP header: client IP, cookie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nexpensive servers function as singl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new servers, sites without interruption to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er, app server, database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(HTTP)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les HTTP requests and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s and writes XML and XHTML 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k of it as a pre-written main program with many pre-written components for common ta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generate Web pages/XML, read/write from db easi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ed from UML use cases, sequence diagrams: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der entry, receiving, shipping, payment, engineering,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istent storage of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ing of data across applications and organ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sitory of business rules, within database and to guide XML document ex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tion of all system components (hardware, software, network) is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ystem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early in system development or configuration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users, applications, system software, networks,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Web/app/db servers, networks, backu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ations are complex and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is usually wrong on which estimates are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is needed because you need 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dg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a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member the estimate convergence cur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much uncertainty in the final system hardware and software. We are only in spiral 1 st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 make a baseline (point) estimate, you have a lot of error and about a 50% chance of being too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’ve done everything else right but your system is slow because of inadequate hardware or telecom, it will be very frust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customer can’t tell why your system is slow. It may be bad database, bad/inefficient software implementation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one of the few problems that you can throw money at to sol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 configurations are usually overb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mponents will be oversized, but you have a better chance of having enough capacity at the (unanticipated)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nd your entire budget, always, or use 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server (often virtualized) does just one t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server (Web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logic (app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(database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an understand and characterize its task this way. If a box handles many functions, sizing and managing it is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ree tier architect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478240" y="1027080"/>
            <a:ext cx="47242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client (browser/ap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478240" y="2475000"/>
            <a:ext cx="47242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er (HTTP ser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478240" y="4075200"/>
            <a:ext cx="47242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4078440" y="1560600"/>
            <a:ext cx="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52680" y="1752480"/>
            <a:ext cx="29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TTP GET, POST;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 flipV="1">
            <a:off x="5754600" y="1560600"/>
            <a:ext cx="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921280" y="17510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XML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4078440" y="30081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14920" y="3324240"/>
            <a:ext cx="38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aspx page calls business lo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V="1">
            <a:off x="5754600" y="30081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689800" y="32878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usiness logic re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7623720" y="99072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7622280" y="24750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7622280" y="40752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2473200" y="5675400"/>
            <a:ext cx="472464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>
            <a:off x="4073400" y="46083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1711080" y="487692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 flipV="1">
            <a:off x="5749920" y="46083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019920" y="488808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QL result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7617600" y="56754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78840" y="6424560"/>
            <a:ext cx="89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In HW7, your aspx pages include the business logic that is usually in the application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7393320" y="434340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.NET, JEE 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7277040" y="278748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IS, Glassfis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7190640" y="598788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SQL Svr, Orac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e study: Travel indust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Travel Alliance (www.opentravel.o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0+ airlines, hotels, car rental, GDS,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DS: global distribution system (Sabre, Apollo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aboration to implement industry-wide open e-business specif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ctronic distribution supply ch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ed common XML formats, trading partner to trading part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als are to lower supply chain costs and improve consumer travel costs and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protocols in current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Teletype: 64 character sent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/EDIFACT (EDI): fixed messages, difficult to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e systems, messages have been used for 3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” travel agenc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 travel agency “T” in Midwe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es of busines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ine, hotel reservations for res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attraction reservations for international visi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s us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ephone, fax, teletext message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nally developed computer apps: customers, local attracti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changed travel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became GDS partner for international travel in Midw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uite of services offered: air, hotel, rail, car r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uite of international services for US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ned branch offices around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835360" y="6400800"/>
            <a:ext cx="62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d on Kumar, Narayan, Ng, “Implementing SOA Using Java EE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” travel agency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” changed its information systems to work with GDS and its consumer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software, middleware, desktops, serv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” unable to penetrate international travel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remedy this, it bought  UK and Asian travel ag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three companies had different legacy applications, and networks,  which created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s architecture needed for new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et evolving customer and GDS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mize legacy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ain existing Web services, if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new Web services to replace legacy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tivity diagram: current syste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212724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035240" y="1371600"/>
            <a:ext cx="480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ices are comple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r: carrier, price, time, hops,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tel: chain, room type, rate, location,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r, sightseeing package simi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ine reservation may bundle hotel, car reservations at dis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ation confirmation may be delayed (especially interna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al itinerary not acceptable to customers to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s change their mind partway through the itinerary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vel packages must be flexible, attractively priced, easily book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s have own discounts: AAA,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quential process too slow for online us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Activity diagr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a UML activity diagra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as many steps from previous diagram in parallel as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at parallel results fit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results fit together: present the outcome to custo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wise, re-do required step(s) until a fit is foun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tell/ask customer to search ag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1077840" y="5334120"/>
            <a:ext cx="711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models a set of Web services, providing reservations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ustomers connecting to multiple reservation syste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ation itinerary gets filed with “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 checks if air res made; if not it uses air Web servi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then checks hotel, car in same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1523880" y="523800"/>
            <a:ext cx="60962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, co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architecture will generate many (often thousands) of queries in 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of the results won’t be used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sorted and assembled by the 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the best ones are shown to the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requires much more (often thousands of times more) bandwidth than older appro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optic bandwidth is large and can support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chain and other business applications are moving to thi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 many carriers, vendors, etc. for availability, price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23T23:50:29Z</cp:lastPrinted>
  <dcterms:modified xsi:type="dcterms:W3CDTF">2013-11-19T01:49:26Z</dcterms:modified>
  <cp:revision>291</cp:revision>
  <dc:subject/>
  <dc:title>1.264 Lecture 5</dc:title>
</cp:coreProperties>
</file>