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22B7A-62FF-473C-BF8C-64CC6B94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B7D47-4194-4550-B085-055EC35566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AB71A-FCA4-4ED3-BD5D-7A6122E4FB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AD8B5-C6B9-412C-BF5E-8DBBA8C286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3E37D-06EA-4CF6-AFCB-81973A3A51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D69F5-727A-48D6-B5C5-80AC2A5C4F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A2BE8-5CBF-4B33-91B3-F33A9A8900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9EB9D-7957-4A83-AC67-2DE3B06B4B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4F901-C6F0-42D4-8259-6EAFE9CA06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6FF44-8ADB-4E44-8180-5DA55DAA3B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2ECF6-1C5B-46A8-89FE-ED8127B086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D057E-33A5-4FE2-931F-3349D31D49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0C3-B1F2-428F-B496-B943A4FE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3F5-5850-4097-AEB0-4820905B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8BC-523A-40B6-8C6C-34906D2F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F1E-7E9E-4714-A25F-9ABE6F35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506-A624-4BC4-88F6-9671AEE5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358-9E19-4813-87BF-AA11F8DB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457-90D1-4684-B5BA-10B5B3EE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B51-4D03-439D-9871-744D3A48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829-5A48-4283-B383-51200A8A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DBA-229B-4F6E-A51A-290FF14A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0EB-95F5-442B-9164-CF1B22DC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C16-3711-4202-B334-E63FAF7A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1F96-9388-4BFB-BCB6-8E28C34434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Controls, Forms, 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86080" y="5719680"/>
            <a:ext cx="45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Visual Studio. Open the Lecture18/19 Web 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989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05120" y="1754280"/>
            <a:ext cx="5489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Inserting data, other feat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 Improve the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edit the page links in the nav bar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n Offices.aspx page if you hav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(h2) text on the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t website.map to include new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what the ‘breadcrumb’ navigation uses as it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ext to Default.aspx, your hom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‘Contact us’ link; it should send e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s to the pages you created (&lt;title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some SQL by hand in the SQLDataSource wiz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INSERT statement in CustomerOrders.aspx to confirm it does not have a primary key field, because the customer number is IDENTITY (auto-gener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351600" y="6324480"/>
            <a:ext cx="58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oolkit.ashr.transportation.org/NCHRP.aspx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save pages in VSW after makin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on tab means the page has not been sa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refresh the browser after you make a change to a Web page and are testing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rowser caches the page, and doesn’t know that you’ve changed it unless you force a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up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your Web site to another Web site on your computer periodi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 (and JEE 6, LAMP) framework allows Web site construction from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onnect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, form, data, detail views for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ion controls (we didn’t cover t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ion controls (SiteMapPath, oth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and permiss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AX: Asynchronoux Javascript and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es the sorting in GridView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: machine-to-machine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this in the next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works for Web-database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.NE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, IIS, SQL Server, ASP.NET and C# or other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va Enterprise Edition (JEE 6 or, older, J2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S, Glassfish/Apache, any database, 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MP open sour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ux, Apache, MySQL, 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can essentially inter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ices based on cost-speed-performance-security-stability tradeoff: Java -&gt; .NET -&gt; 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similar features, though details v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P.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pages are .aspx pages. They have 2 par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Aspx page, which is considered a Web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Microsoft ASP.NET server code that converts the controls on the .aspx page into XHTML that is sent back to a client (browser or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HTML code is generated dynamically based on database queries and programs that run on the server, such as optimization or design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ites are compiled to check for errors, just like software programs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bug-&gt; Build Web Sit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heck for err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-driven model, as we’ve seen in our exerci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Inserted, DataUpdated, DataDeleted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Web site Lecture18 in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7169760" y="658188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 to next slide to fin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delete: part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Edit data between two ta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3 SqlDataSources, 2 GridViews and Form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 and edit orders for a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use this to display and edit line items in an order in homework 7/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s to create CustomerOrders p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1: select * from custo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1 on data source 1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2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customer is selected value from Gridview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2 on data source 2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3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order is selected value from Gridview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: Enable insert, delete, 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FormView1 on data sourc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GridView2.DataBind() to events as in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&lt;h2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447920" y="1065240"/>
            <a:ext cx="62910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Passing a WHERE parameter across p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get parameters for WHERE clause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(e.g., Grid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String (e.g., localhost/Order?ID=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ssion variables, prof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2.aspx with two hyper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1: SalesReps3.aspx?office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2: SalesReps3.aspx?office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3.aspx. On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qlDataSource1 WHERE RepOffice= QueryString 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GridView on SQLDataSourc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 SalesReps2 in browser and click on 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use this to display your catalog in homework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3T23:49:51Z</dcterms:modified>
  <cp:revision>217</cp:revision>
  <dc:subject/>
  <dc:title>1.264 Lecture 5</dc:title>
</cp:coreProperties>
</file>