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4873-76B4-4C2C-B09B-E32D17D30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AFB2-0B68-446F-B8B0-6CD6E62E139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1A42-B692-4575-874A-949D0954EF8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D543-07D1-4888-8526-2A8F52D9DB6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1903-3234-4B95-B137-7609183AB06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41DD-9EEB-43C3-9283-D945E7D1240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1591-EA38-40CB-ADEB-855A05F34A1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1455-2128-495F-B1E0-47D5E40CA1D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20B3-BEEF-4B21-97FA-1E846C03C99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EE2E-C537-486A-96DA-CE6C90017F5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150D-9999-46D9-B3E5-667614F2683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ED61-8B33-4C46-B513-002A2B0EBBB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3C0A-5F01-45DD-A798-3D11A6A7F4A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9683-17E6-44FC-BBB4-AB586AF6BC9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E040-53B9-4DD9-9B36-6E3D0B48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F94-0408-48C9-8B2E-DB998371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15FB-209D-4392-8B51-1269F27B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5D4A-7538-402B-985C-0F897296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E0C-5E4C-4105-A19B-71991D11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59C3-AF6F-4CC5-B70C-5BE84295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DE2-BF19-4A7B-8EBF-CF649B2B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FCD-7C58-40AD-B90D-8FF7A43A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9255-A9E8-4DE8-97BD-1E04FB70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5CA-131E-4BA2-89A2-40B38AF8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A038-D40C-48D8-A5E8-254DA722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3DAD-B338-4CFF-A259-6AD1D7ED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F179-5033-4970-9992-804085B8C5F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bas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720" y="5719680"/>
            <a:ext cx="502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3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mises for Internet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-network-server are the 3 key compon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 (browser or application) premi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server is operated by organization stated  (ident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s returned by server are free from viruses (trustworth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server will not distribute user’s private info, such as identity, financial, Web use… (secrecy/privac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premises (for both client and serve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is free from third party eavesdroppers (secrec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delivers information intact, not tampered with by third parties (secrecy, trustworth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premi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attempt to break into or alter contents of Web site or database (secrecy/confidential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try to gain access to documents or data that he/she is not allowed (secrecy/confidential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try to crash the server or deny service to oth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user has identified him/herself, user is who he/she claims to be (ident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ent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ection and hijacking (botnet, spam serv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lware, viruses, trojans, worm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ero day vulnerabil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engineering to visit Web pages, respond to e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 term solutions are virus checkers, edu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term solution is cloud w/few apps on clien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vacy l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kies. Abused to track user hab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ail. Spam. (What % of email is spam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 term solution is email verification (IP address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ty loss (phishing, other attack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tial information sent to unauthorized par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: education, IP improvements, certificates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r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ite break-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theft is usual object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, basic apps fairly sec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s are primarily database prot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s compromi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iders (what % of attacks are inside jobs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seem to be losing the batt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llions of credit cards disclosed annu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ed worms/trojans steal from business and consumer accou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5% of corporations report significant breach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us checker/intrusion detection don’t prevent sophisticated attac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www.threatexpert.com for some statist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twork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ial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acks that cause system to expend large resources in respon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ed denial of service attac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s are distributed filters, identification of attacking servers, changes in Internet protocols to limit spoofing in open Intern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use of private networks under Internet protoco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cket sniff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for unsecured servers, ports to attack. Mostly small/medium busin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ing encryption is rare; there are easier holes to exploit, usu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e study: Public transport fare coll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h/token transit fare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e security feature of transit system fare collection system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internal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passenger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risks in getting funds to ban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rtcard transit fare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e security feature of transit system fare collection system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internal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passenger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risks in getting funds to ban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urity engineer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far, we’ve covered requirements, UML, business rules, data models, databases, We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cus on correctness, completeness, consist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are important for security too: a buggy system is an insecure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doesn’t do what it’s supposed to do correctly, it won’t handle other things correctly eith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engineering focuses on guarding against malice, and against errors that can be exploi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lice is the key additional factor for 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lectures are just an introduction to secu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over basic principles and core issues/exam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syste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 or component: protocol, smartcard, compu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ction of products, plus operating system and its commun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ction of above, plus application softw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IT sta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users and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customers and external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environment: competitors, regula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vendors, security evaluators focus on 1,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es focus on 5, 6, as does Anderson, and so do w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actor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: physical person, company or gover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definitions relate to legal defin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le: function assumed by different persons in succe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your database administrat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al: entity that participates in security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person, role, communications channel or other component, including an attack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ty: names of two principals that are the same person or compon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a user and his or her username/password, or his or her iris scan or fingerpr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ccessing your apartment or home, defin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ccessing your apartment or home, defin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rge, Katie (occupan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mbridge Savings Bank (mortgage holde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ous plumbers, electricians, cat sitters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cupant, owner, building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cupant, landlord/owner, building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k, keys, ala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rglar, George, Katie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tie, George, Katie’s key, George’s key, alarm c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rglar can adopt our identity if we lose our ke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ssica (cat sitter), our house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trust and secrec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ed system: one whose failure will break security poli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your building access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worthy system: one that will not f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a well administered, technically correct access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recy: mechanisms to limit principals who can access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tiality: obligation to protect other person’s secr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cy for the benefit of the organization (strategic plan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cy: ability/right to protect your personal secr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cy for the benefit of the  individual(bank account numbe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nymit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content confidenti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source or destination confidenti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enticit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icipation of genuine principal, not a copy or a fak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ust and identity example: certificat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umer user identity in certificates is email address (e.g., your MIT certificate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ual identity for users is most often established using credit card number or account nu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any identity based on domain name/UR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ng partner trust is not based on encryption, certificates, etc. but on knowledge of each other from face-to-face business deal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uter security is only one element, though crucial, part of trust and ident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computer-based trust and identity seems impossible: no centrally trusted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8T15:50:20Z</cp:lastPrinted>
  <dcterms:modified xsi:type="dcterms:W3CDTF">2013-11-07T22:52:23Z</dcterms:modified>
  <cp:revision>192</cp:revision>
  <dc:subject/>
  <dc:title>1.264 Lecture 5</dc:title>
</cp:coreProperties>
</file>