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8EE254-E9D4-4C0F-8D66-7D20D83343D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228AB8-03A3-4BAA-AC64-7C0B464C261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571A52-D074-4BD1-B288-863F0E0E08E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F7C1CE-63FB-41E1-93D7-EECB468B27D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D44ABC-85DF-4577-9F85-398AB874515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BCD0D7-6E5F-4680-BF95-DF82B76EAC1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3A701E-ABDC-4468-B9B9-66A35FBC1E5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6039B9-6E9B-4DBD-859A-D4E9DD2BB8C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755BD1-E0B0-43F7-892F-AE442F9A9A7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22A1B4-551B-4CFB-8E19-0E830BC457B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0ADE02-F05E-430E-BAC9-DB63325D9B9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F1830E-7A11-4EA3-A2FE-0E817C804FA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03F75B-2FCC-496D-B065-ABAAD69F5AE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31FB6B-D984-426C-B2E3-8C2055F9BBF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8F09E7-9EF6-4974-BDF5-2078CB15457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9E4-95E7-47D1-A00D-33326238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447-6856-4C26-8209-88733BBD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81D-C66F-4F70-987A-4FA9593F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D18-E111-4148-AE58-51B61005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ECF-FAA5-41A7-B008-B13A340D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141-5FDC-43D6-97F7-9EFFBAE1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F27-3D97-4B19-9342-FA6F18FD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ABC-1F3C-4A7D-8323-CAB99461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DE7-8D48-4B1E-80B9-16F3F217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E4D-E6F7-4E05-935A-7C832428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FA6-DE58-4ED0-8B89-8313C8F3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4BC-F721-432D-B408-EB92E668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855E-14FD-40FB-9795-842B64FCBE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3560" y="5719680"/>
            <a:ext cx="649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iz 1 review 7pm on either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Wednesda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next week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wnload and unzip Lecture21Download. Put in Lecture21 Web sit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 chapter 10, pages  337-348: Web services only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cument Type Declaration (DT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TYPE: class (type) of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ced in XML file, refers to DTD file to be used to val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MENT: object in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ther all valid values are given in a list in ()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lement is defined later in the DTD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bols: +: 1 or more, *: 0 or more, ?:0 or 1, none: exactl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LIST: valid attribute list for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CDATA: charac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PCDATA: parsed character data (can’t have &lt; &gt; &amp;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REQUIRED: element must be pres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IMPLIED: element optional, no defaul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FIXED: attribute value 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TY: a constant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| means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2: DTD fi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list (book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 (title, author+, pric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bo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topic (software|UML|database) "U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ationdate CDATA #IMPLI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ISBN CDATA #IMPLI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titl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author (first-name, last-nam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fir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la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pric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NTITY currentyear "2013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7796880" y="645804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dt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e a DTD file that states these business ru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1.264 class has one to many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roup has a name, a number, and has one to two (many) stu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TD file specifies the elements and attributes present in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exercise 1 XML file as the basis for your DT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no DTD file type in VSW any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n html file, rename it to Classlist.dtd or similar, go to Source view and delete all the html so you have just a blank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6957720" y="647712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ow Exercise 1 solu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-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classlist (group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class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lass (1264|ESD264) “1264“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 (groupname, grouplist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umber1 CDATA #REQUIR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list (name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5905440" y="6418440"/>
            <a:ext cx="30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of statements may va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can b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by anyone: tags and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 and received by databases using SQL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ed by DTD or XSD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ed and styled by XSLT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d on a server for clients to attach to, such as 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files are little pieces of a database that can be shared. Typically they repres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a single table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two tables in a many-to-one relation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arbitrary set of tables/relationship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3C: World Wide Web Consortium (standar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: Document Type Declaration ( XML valid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Schema or XSD: XML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XML Stylesheet Language/Tra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ies or queries X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Query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XML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sible Markup Language (XML)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World Wide Web Consortium (W3C) standar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ile format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and cheaply distribute electronic documents on the World Wide 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not frozen like 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rich structure, like objects or hierarchies or relation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validation and well-formed 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oiding applets, scripts, plug-in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arating form (how it looks) from content (what it 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Concep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is self-describing and can be validat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 contains the business rules to which its data must con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les can be reused in other documents: documents can be more specialized types (inheritance) of a base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interchange format between compu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ing Web server as data channel between 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ed processing of documents ex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format for Web, electronic, paper documents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as a general markup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used for manuals, CDs, help and other text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ndled by standard browsers (IE, Firefox, Chrome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te procedure call/invocation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utes Web services or processes on othe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Document Stru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predefined in HTML (or XHTML)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how the page should be displa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declaration (defines vers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 type declaration (defines tags): DTD  or X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data elements, not how to display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defined in DTD or XSchema document, which anyone can 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1: XML fil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?xml version='1.0'?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!-- The 1.264 reading list --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software" publicationdate="1996" ISBN="1-55615-900-5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Rapid Development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Steve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McConnell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Brya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Syverson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48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UML" publicationdate="2004" ISBN="0-321-19368-7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UML Distilled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Marti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Fowler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34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482960" y="62485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.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new Web site in VS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 New Web Site -&gt; Lecture21 (or other na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the lecture 21 files from Stel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e/copy them to the Web site you just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is Web site, write an XML file that describes the 1.264 class, two groups in the class, and the students in the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XML File in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ppropriate elements and/or attributes for the class, groups and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display it in your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-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classlist class=“1264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1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Rapid Development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Bell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McDuff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2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UML Forever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Smith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Brown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class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Languag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ways to express business rules/vali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T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Document type declaration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XML itself (oddly), being replaced by XML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should understand how to write DTDs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ML Schema or XS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SD is XML subset, verbose but power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don’t need to understand the details of XSD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user-friendly tools to manag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would be one more download for you; we will just look at them ma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to format and transform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SL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extensible stylesheet language/trans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Pa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or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sublanguage for qu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many others for specialize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Link, XPointer, RDF, XForms, …  see www.w3c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1: XSchema Definition (XS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chema  (details omitted) 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booklist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maxOccurs="unbounded" name="book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titl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author“ maxOccurs=“unbounded”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fir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la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price" type="xs:decimal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topic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publicationdate" type="xs:unsignedShort" use="required"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ISBN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chema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775640" y="64612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xs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0-25T13:16:14Z</cp:lastPrinted>
  <dcterms:modified xsi:type="dcterms:W3CDTF">2013-10-27T21:21:56Z</dcterms:modified>
  <cp:revision>468</cp:revision>
  <dc:subject/>
  <dc:title>1.264 Lecture 5</dc:title>
</cp:coreProperties>
</file>