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DD023-8BBC-47E3-B26F-3F613C24D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62490-1D97-45D0-ADE4-F4BC410642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68379-1E70-4222-9374-DF6F15E31E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0892A-2C70-4837-86E3-4681BE8D01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7AFE9-5559-44E5-8D02-298DA5EF00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F3799-31C5-4015-BE5D-F7DBF45967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D6BAE-4F02-4E56-BAC7-492307B7E5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7A0F1-D954-436C-A926-FD43524B93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AE360-489F-4931-8FE1-5F095F1B45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2DA58-60FB-4AF4-A853-BD653FF07D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220CD-6984-4E1E-84B1-D5FE2008CF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B6697-D966-41EB-B2E4-CF5868E53C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45E4A-7135-4DD7-9478-A58B46F807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815F7-1DFE-46D5-BBCA-5DC553B8EB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3EAF033-7896-44A9-9E31-7FF18213DF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95D664C-F042-4A54-891D-C8087B260F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FF8C3D4-A222-4873-A116-A2D09849E6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89D13E5-CF19-4D44-83B9-9EAED7CB64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159C714-06C4-4D20-81E8-8BF1E5FACA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B4243EB-D750-490B-A5C1-AC3E1B0B71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70B-7D7F-440A-9145-B8BFC514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41C-C5A1-480D-A4AF-9D3E7FC1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70D3-AF2D-4978-9F50-6BE871D3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571-69F3-49AC-97D7-7E0C5B2F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303-7B66-44F4-94A8-B22F5661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9448-D8C4-48EB-9622-FB97EBF1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A22-894F-42F7-B856-866A886C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702-CD81-4434-8942-4493D213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106-A658-4AA8-B6C1-75DF1875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E6E-4F69-4348-BBA1-BAC67964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605-BFE4-43F2-A983-2A1F4EC5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0D2-FFC1-457B-BACD-C86FEF2E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7FFB-0C7A-4DAC-94D6-740C838D08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92120" y="5562720"/>
            <a:ext cx="478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after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 same Web site today that we started in Lecture 2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so open SQL Server Management Studi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6: More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have XML columns in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query, update and index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at a time, ru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1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2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3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4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es each 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nice way to store highly variable information where standard columns don’t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600520" y="6253200"/>
            <a:ext cx="359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XML1-4 code from Kiessig, Ultra-Fast ASP.N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Exercise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1: Creates XML schema and Products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by Products table to validate XML colum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2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ll columns from all r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props where width ex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width where color of top part is bl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first color where color of legs is ch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e leg color to si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arm with color wh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ve first color (a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4: creates index on XML column, path, properties and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indexes on Products table in SSMS explor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dpoint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: snippet of database being sent from one Web server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ains tags defined by business, hyperlin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ew from HTML but defines content, not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and/or XSD: contains business rules (1-1, 1-many, null/not null, etc) to validate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transforms and styles and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change to sent or received XML to meet business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query language used for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role as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mple Object Access Protocol: SOA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XML and 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nt is to use no extra technology for distribute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some headers to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new MIME type: text/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s agreed definitions of data types, mandatory valu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POST and XML replace complex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text rather than binary, so it’s much easier to interoperate across machines and debu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nary transmissions are not human-read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AP can send binary objects like pictures (that are human read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sufficiently efficient for most machine-machine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the key component in Web services, or Service Oriented Architectures (S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provides information in an XML format to be used by a 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does not display the data in a user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not tied to a specific Web page or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in .NET are on pages with a .asmx extension (not .asp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W and .NET make writing simple Web services ea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is generally used to generate the XML pay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accept parameters, such as customer number or order number, to return only data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ameters are used in the WHERE clause in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Description Language (WSDL) describes a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ically created by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7: Web Services in VS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ll create a Web service in a regular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ly we create a separate project/site for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open previous Web site, or create new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-&gt; New File -&gt; Web Service: TemperatureService.asm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‘place code in separate file’. No master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 the following co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ouble toCelsius(double tf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(5.0 / 9.0) * (tf - 32.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view in browser: a WSDL page is sh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TemperatureService.asmx HTTP/1.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30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ToCelsius" 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oCelsius xmlns="http://tempuri.org/"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F&gt; 32.0&lt;/TF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ToCelsius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spon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HTTP/1.1 200 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Length: 25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ponse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ult&gt; 0.0&lt;/ToCelsiusResul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ToCelsiusRespons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Envelope&gt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database qu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sh to query the Parts table for all parts of a given ven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vendor will be a parameter to th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eb service will use a database connection to execute the SQL qu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will return an XML document as its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de is in your Lecture 22 download as ProductService.asm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mit1264lecture22/ProductsService.asmx HTTP/1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leng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GetProducts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etProducts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Vendor&gt;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string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Vendo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etProduct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ap of XML Basi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hold self-describin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erarchies, objects, database table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flexible, decided by industry groups, part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documents can transform or styl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S isn’t enough because we want to display tag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files can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has the DTD that server or client can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TDs are limited: can’t define data typ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chema (XSD) files preferred to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structured, more extensible than DT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s can read and write 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s can send and receive XML as payload in HTTP, much like HTML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has made XML the markup language in 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ting a disruptive technology in place to automate commer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ductService.asm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WebService Language="C#" Class="ProductService"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ing System;  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nd other ‘using’ direct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(Namespace = "http://tempuri.org/"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Binding(ConformsTo = WsiProfiles.BasicProfile1_1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class ProductService  : System.Web.Services.WebServic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ataSet GetProducts(string Vendor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Connection con1264= new SqlConnection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onnect to d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"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DataAdapter dad1264= new SqlDataAdapter("SELECT * FR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arts WHERE Vendor= @Vendor", con1264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SelectCommand.Parameters.Add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dd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ew SqlParameter("@Vendor", Vendor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Set dstProducts= new DataSet(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output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Fill(dstProducts, "Products"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Run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dstProduct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b service example 2: respon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3" descr="WebSvcOutput"/>
          <p:cNvPicPr/>
          <p:nvPr/>
        </p:nvPicPr>
        <p:blipFill>
          <a:blip r:embed="rId1"/>
          <a:stretch/>
        </p:blipFill>
        <p:spPr>
          <a:xfrm>
            <a:off x="228600" y="914400"/>
            <a:ext cx="87850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8: Web serv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the connection string in ProductService as nee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y the Web service to return parts and vendors only if the part ID is 1000 or gre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y the connection string to log into your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SELECT * FROM Parts WHERE Vendor= @Vendor AND partID &gt; 1000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mlDataSource: BookMIT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DataSource control on page, config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 for Books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Path: //booklist/boo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[Forward slashes, not backward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DataList onto Xm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XmlData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View in browser—MS tools only show attributes, not elem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source view, delete all text in &lt;ItemTemplate&gt; and replace wi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p&gt; &lt;%# XPath("author/first-name")%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author/last-name")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ric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topic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publicationdat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ISB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ve and test (BookMIT2.aspx has nicer format—see downlo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SLT: XML Stylesheet Language/Transform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is a language to transform and style XML documents from one form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or display, especially to show tags, which CSS does not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o convert an XML document from one format to another, in passing it from one organization to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on next page transforms Books.xml into Authors.xml by selecting just the author ta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has loops, if statements and is a mini-programming language to select and transform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o understand the details of XS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AuthorXSLT.aspx applies Books.xslt to Books.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e download and example run in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XSLT: Books.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 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stylesheet xmlns:xsl="http://www.w3.org/1999/XSL/Transform" version="1.0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s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apply-templates select="//book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book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fir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xt&gt; &lt;/xsl:tex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la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styleshee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28600" y="644364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n BookAuthorXSLT.aspx to apply Books.xslt to Books.xm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Simple 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3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 control on page from the Standard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o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 XMLDataSource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gure it by typing two properties in Source view, or by using the Properties window to select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Source="Books.xml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Source="Books.xsl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XML control will display the authors from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a simple illustration of trans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of these exercises are illustrative. XML still requires some programming, often simple, which is beyond the scope of this cla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4: Blogs are XML: Blog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609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Page Language="C#“ (details omitted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DOCTYPE html … (details omitted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 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 id="Head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XmlDataSource Blog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id="form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DataList ID="D1" Runat="server“ DataSourceID="XmlData1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ubDat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descriptio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Data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XmlDataSource ID="XmlData1" Runat="server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File="http://www.hanselman.com/blog/feed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XPath="rss/channel/item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XmlDataSourc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671400" y="651996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e Blog.aspx. Compare with www.hanselman.com in browser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5: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SQL Server Mgt Studio, use MIT1264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attrib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,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e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a root tag (e.g., &lt;Customerlist&gt;) and end tag around the SQL result set, and we have a valid XML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the root and end tags with SQL, C#, Java, 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also INSERT, UPDATE, DELETE with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database insert examp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REATE PROCEDURE xmlOrderInsert @order ntext 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DECLARE @docHandle int, @OID 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preparedocument @docHandle OUTPUT, @or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BEGIN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Orders( CustomerID, EmployeeID, OrderDate, RequiredDate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CustomerID, EmployeeID, OrderDate, RequiredDa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', 3) WITH ( CustomerID nchar(5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mployeeID int,   OrderDate datetime, RequiredDate datetime  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0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T @OID = SCOPE_IDENTITY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[Order Details] ( OrderID, ProductID, UnitPrice, Quantity, Discount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@OID AS [PO ID], ProductID, UnitPrice, Quantity, Discou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/OrderDetails', 1)   WI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( ProductID int, UnitPrice money, Quantity smallint, Discount real  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1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OMMIT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removedocument @docHandle SELECT @OID AS [Order ID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7094880" y="643104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codeproject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09-22T22:04:20Z</cp:lastPrinted>
  <dcterms:modified xsi:type="dcterms:W3CDTF">2013-10-31T14:02:11Z</dcterms:modified>
  <cp:revision>277</cp:revision>
  <dc:subject/>
  <dc:title>1.264 Lecture 5</dc:title>
</cp:coreProperties>
</file>