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1ECA4B-D2FA-4064-BEE5-CDA182C36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25AE7E-9D62-4C97-A962-82D024C0958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741583-C483-42DB-8FCC-ECED00E5412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D7EB1D-BE59-4367-8B54-2505234328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1B4AB6-9665-4D8A-ABFE-D7F7A09C65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5CD8DB-E32B-43E2-B9D6-84632260A2B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D2B033-3123-4E59-8E9B-36B54B27D68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1893F4-FDB3-4B65-95B1-4525671E578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81F0B8-9D63-4E46-BC7D-9FF162664E7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836E30-7033-4B20-96AA-02A6FAABC91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70F0A4-2E77-4C57-9EE8-CDC83C8E9A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C7AFAF-5240-4049-9344-758527A2B6B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F48C-77E8-44D0-9A62-755B809DD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01CE-85C3-43DA-B3B4-4C52D458D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2D63-8DB7-4FAE-8FEB-D815B34F2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49C8-9E3F-4BFB-BDC2-CA2B9635C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7565-DC41-4D83-B7FB-F4B3D5678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D273-4FF7-499A-9A68-3E4F01A3D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532C-1C69-4A0A-9574-AC0AA13C9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62C8-3515-49EB-A0DD-710D5F35D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EBAF-BB0E-4B45-A4F1-C9C791D57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6569-1C9E-4531-A8AE-BF16DD9A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8BCE-B031-46B0-94E8-FF90D707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4942-5264-4A73-8629-F4045BAD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0A62C-C116-413B-8715-1132954FAEE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23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b services, conclu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197720" y="5719680"/>
            <a:ext cx="649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No readings.  Exercise due 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before</a:t>
            </a: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ass (case study on Stellar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ervic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owse catalog, with many parameters/arguments to narrow by product type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ce order, with parameters on carriers/modes, split/backorder preference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pay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/shipment stat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cel or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/shipment/payment his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tting users find the services, making sure they are almost always running, transactions/rollback, performance, security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440" y="6858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ervic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nd XML documents as request and response between Web servers and/or clients using HTTP. (SOA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e text-based, and avoid differences in Web server hardware, operating system, programming language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e validated using XSD (XSchema Definition) (or DT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 be discovered through WSDL regist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11440" indent="-1620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they are called and what they return is defined in WSD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 be used as data sources (ObjectDataSource) from remote datab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e relatively easy to impl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ow data to be liberated from databases and sha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rrent develop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SON (JavaScript Object Notation) is being substituted for XML: less verbose.  Still standards-based, text-bas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CF (Windows Communications Framework) supersedes simple Web services (.asmx), more flexible (Web 2.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eb Services Description Language: WSD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SDL 1.1 (current version) contai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cription of XML data (types) that can be passed in &lt;types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st of messages in &lt;message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quest and response mess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rection and pairing of message passing in &lt;portType&gt;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quest-only, request-response, response-o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ssage encoding in &lt;binding&gt; element (literal, etc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cation where service is offered in &lt;service&gt; el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Bay example in downlo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Bay deploys 300 features per quarter and 600,000 lines of code per quar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SDL 2.0 in limited 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SDL documen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28600" y="1468440"/>
            <a:ext cx="3935520" cy="3921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4190760" y="137160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ype: rate: 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x types defined w/ XS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ssage: RateRequest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quests, respon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rtType: matches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quest/respon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put message: RateRequest()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utput message: RateResponse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nd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eration: request-respon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vice: Truck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ress: http://www.aaa.com/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b service discove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2400480" y="2033640"/>
            <a:ext cx="4343400" cy="401004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4809600" y="6477120"/>
            <a:ext cx="419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Kumar, Narayan, Ng: Implementing SOA Using Java E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SDL discove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825480" y="1981080"/>
            <a:ext cx="3530520" cy="4114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eate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erate WS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gister web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blish Web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cover Web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derstand Web service seman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voke Web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: Registering a Web service on a Web serv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6765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Web site from lecture 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t up the Web service on th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erv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as follow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ght click Web site name in Solution Explor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Add Service Refer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‘Discover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link to ProductService Web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default namespace (ServiceReferenc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ervice reference placed in fol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ok at the WSDL file, which describes the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: Using a Web service on a clien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1447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w use/consume the service on the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lien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ate Parts.aspx page (File-&gt;New File-&gt; Web For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Make sure Parts.aspx is in the main folder of the Web s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ag ObjectDataSource from toolkit onto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figure data source: select  Product Service, and GetProducts() metho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t default value=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op Gridview control on page, set its data source. T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usually have a vendor GridView and use the selected field instead of a default value—this is a shortcut examp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customer would normally build this Parts.aspx page on its Web site. Not you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ustomer would drop several ObjectDataSources on the page, one for each of the parts/products manufacturers/distributors (including yours) that it uses. It would then have a query or logic to choose the vendor based on availability, price, quality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gistries: UDDI, ebXM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DDI: Universal Description, Discovery and 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-based registry for businesses and Web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DDI contains information about the business that publishes Web services, and the Web services themsel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ample: http://soapclient.com/uddisearch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bXML: Competing standard (IS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ividual organizations or industries typically use private regis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gistries provided by MS Biztalk, IBM WebSphere, Software AG WebMethods, 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st the Web services you would include in your homework Web 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se would be registered and available for your customers to use in their systems that check your catalog, place orders, check status, and make pay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st, if not all, will essentially be database que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problems would you anticipate with these Web servic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1998-10-06T02:50:22Z</cp:lastPrinted>
  <dcterms:modified xsi:type="dcterms:W3CDTF">2013-10-26T00:44:01Z</dcterms:modified>
  <cp:revision>285</cp:revision>
  <dc:subject/>
  <dc:title>1.264 Lecture 5</dc:title>
</cp:coreProperties>
</file>