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A30B0B-BBDB-409F-8674-1D829338B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277208-756E-4AD4-828D-1944A53153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988708E-C514-4287-B2AE-0698C7E564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D34F7B5-C94B-46B7-A99F-C2B1CF737F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E81F33-9047-4122-938D-516E05EE13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B07286E-1CB1-4CBB-BC28-1F7ED887E6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054FE6-CE27-4BF1-81F2-939D52B0E7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B8281AF-9F0D-488A-B415-2C9E467243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4A5A0B2-F754-4E15-8033-64BB73FD82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982D7C6-03C3-457B-96F0-DC7865E950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8C88360-6B76-415C-A788-E6AB1CCD8F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FE98F2B-53DD-40E1-993B-22A86776BC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61196FA-C14A-41FA-A325-26B84CAD2E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C05946-9829-4727-A3B4-F22EB6B40B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25D5999-E940-4B68-B9D2-6324DB630C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6DF1D35-E2B0-4B49-9D75-D76B4891E2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CD9892-6062-4B44-B308-C26E0634E3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14E5-407B-454D-B7C2-F5DD61BF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B94-4661-41D7-BF5C-33B748E1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8B8-28A1-4C2C-BA33-2C0D6C78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423-B1D4-4CF8-AAED-191A52B2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AA3-5646-49BD-86EA-F5764999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9C3-2948-488C-B8BB-C566E621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7A1-CBE7-4D14-B0DB-0DC2BD4D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4D22-5A59-47BA-ABE1-2A1086EE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AA1-6145-483E-92E1-47C8D446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366-28FF-46B2-B3E1-3D514BF8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411B-8EC5-4626-90E1-5FA74DF2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E8E-D095-413B-BA39-ED4B31C0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7CF2-3847-4642-96E5-E0562EACB4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4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Connecting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720" y="5719680"/>
            <a:ext cx="497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7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eb.mit.edu/subjecteval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o 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hernet in the First Mile (EF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per: encapsulate Ethernet within modified DS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Mbps up to 2.7 km, 10 Mbps up to 0.8 k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: essentially Gigabit Ethernet, up to 2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not provide self-healing or diverse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lient Packet Ring (RP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alternate routes and failover, like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al counter-rotating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s Ethernet simplicity for applications,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4" descr="Lec22b"/>
          <p:cNvPicPr/>
          <p:nvPr/>
        </p:nvPicPr>
        <p:blipFill>
          <a:blip r:embed="rId1"/>
          <a:stretch/>
        </p:blipFill>
        <p:spPr>
          <a:xfrm>
            <a:off x="1523880" y="1295280"/>
            <a:ext cx="618804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86" name="TextBox 5"/>
          <p:cNvSpPr/>
          <p:nvPr/>
        </p:nvSpPr>
        <p:spPr>
          <a:xfrm>
            <a:off x="850680" y="5410080"/>
            <a:ext cx="729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 approximate ranges for distance, devices, bandwid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5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50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/u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bps-1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-10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usual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echnologies to connect LAN to WAN, if there is no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own as ‘last mile’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bandwidth at LAN and MAN, but little in ‘last m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ubscriber line (DS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pper lines to telco swi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Z (and others) moving DSL users to 4G LTE, in preparation of abandoning copper pl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ax cable to CATV head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G cellular “long term evolution” (L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, in remote/ocean/air set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ber to the business/home/cu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ubscriber Line (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3" name="Picture 4" descr="Lec20e"/>
          <p:cNvPicPr/>
          <p:nvPr/>
        </p:nvPicPr>
        <p:blipFill>
          <a:blip r:embed="rId1"/>
          <a:stretch/>
        </p:blipFill>
        <p:spPr>
          <a:xfrm>
            <a:off x="1447920" y="1676520"/>
            <a:ext cx="620856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167840" y="5943600"/>
            <a:ext cx="648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y technical variations: ADSL, HDSL, SDSL, VDS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12-18,000 foot limit; data rates of 500 kbps up to 8 Mb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670840" y="4449600"/>
            <a:ext cx="79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carr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DSL (A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per line from customer to central office can handle 1.1 MHz, in 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mpairments (noise, crosstalk, etc.)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stream ADSL uses 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same as voice channel, carries 60 kbps (not 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24 * 60 kbps, or 1.44 Mbps 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500 k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stream ADSL uses 2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13.4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8 Mbps or l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var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SL uses 2 pairs for 1.5 Mbps up to 12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L uses 1 pair for 768 kbps up to 18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DSL may get 3-25 Mbps over 3,000+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channel is 6MHz wide for broadcast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ble bandwidth is 750 MHz approximately (coa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video: 45-550 MHz: 80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data: 550-750 MHz: 33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data: 5-42 MHz: 6 channels at 6 MHz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channel can carry ~10 Mbps of data downstream, ~5-10 Mbps upst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all cable users in seg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 is cable standard for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-like protocol. Users contend/collide to s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en by all devices on cable segment, so it’s sometimes encrypted using RSA (public key encryption) and other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TV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562440" cy="5591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816640" y="337968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ten fiber n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cellular data (“long term evolution”: L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 Mbps, though bandwidth may sat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cing fiber to homes, small busin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speeds acceptable (a few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links either not available or very 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8-256kbps can cost $800-$1,000/mon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s have limited power, long paths, high lo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 paths have high delays, unsuitable for inte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serve rural ar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cover wireless in detail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ransportation brokerage company also handles billing for freight shipments, collecting from shippers and forwarding payment to carri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data must be secure; you route funds directly to banks in some cases and between customers in other c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would you communicate between your three major sites in New Jersey, Houston and Los Ange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transfer approximately 10,000 bills of lading in a 1 hour window at the end of each day from Houston and Los Angeles to New Jersey, which is the only site connected to banks and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bill is about 500 kB of data (documents and signatures are scann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the technology and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 you use LAN, WAN or MAN technology, or combin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specific technologies will you use? Discuss options, pros/cons brief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uss broader options surrounding your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depot in an industrial area without carrier fiber op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,000 buses that return to the depot every evening and upload video to a remot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bus has 10 hours of 384 kbps vid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goes via WiFi (wireless LAN) from each bus to a depot server, and then to the remote serv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ant all data to transmit in 2 ho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ose between DSL, cable TV and 4G wireless access.  Which of these 3 can handle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y can’t, what do you n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/sec= 1,000 veh * 384 kbps= 384 M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send= 2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record= 10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us, the data must be sent 5 times as fast as it was recor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= 5 * 384 Mbps= 1920 Mbps= 1.92 G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, CATV or 4G/LTE cannot handle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OC-48 (2.5 Gbps) over fiber to do thi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be better off having each bus send real time video over LTE, though it would be expensive…  You could sample, have driver control it (usually)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P: Internet Service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P: Network Access Point: ISP interconnect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eder: Telecom cable from central office (CO) to service area interface (SAI) in neighborh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: Telecom cable from SAI to end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M: Ethernet in First Mile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PR: Resilient Packet Ring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: Digital Subscriber Line: Internet access over co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AM: DSL access multiplexer, at central 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C: Local exchange carrier (e.g., Verizion, AT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: Cable TV data standard, Ethernet-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 kB x 8 bits/byte x 10 000 docs / 3600 seconds/h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oximately 11 Mbps raw data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should be at least 15 Mbps, for overhea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route LA traffic via Houston, Houston-NJ needs 25-30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ther case requires OC-1 (45-51 Mbps)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: WAN between LANs at each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only two links (LA-Houston and Houston-NJ), two point to point fiber optic links are a possible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d only 1 hour a day, though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ould handle it but large bursty traffic across the country would have reliability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traffic has security issues on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bandwidth too low (network video has special de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process can/must chan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ed years ago with small amount of data and expensive tele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er to send documents in real time n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docs sent in real time 10 hrs/day, bandwidth = 1.5Mbps, which can be handled by T1, DSL, … much less expensively.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.5 Mbps is a sweet spo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, look further: do we need to send all 500 kB to the bank? If we store the full document, can we send just the part the bank needs? Trade off complexity vs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ther reason why we use spira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considerations at the very end can require changing a business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requires changing requirements among channel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changes UML, database (maybe), Web service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in the first spiral, we can change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at the end of chaos/waterfall, it can be despe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ec20c"/>
          <p:cNvPicPr/>
          <p:nvPr/>
        </p:nvPicPr>
        <p:blipFill>
          <a:blip r:embed="rId1"/>
          <a:stretch/>
        </p:blipFill>
        <p:spPr>
          <a:xfrm>
            <a:off x="1371600" y="1295280"/>
            <a:ext cx="6727680" cy="5145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, WAN and access (last mil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Straight Connector 3"/>
          <p:cNvSpPr/>
          <p:nvPr/>
        </p:nvSpPr>
        <p:spPr>
          <a:xfrm>
            <a:off x="167652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traight Connector 9"/>
          <p:cNvSpPr/>
          <p:nvPr/>
        </p:nvSpPr>
        <p:spPr>
          <a:xfrm>
            <a:off x="167652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Straight Connector 10"/>
          <p:cNvSpPr/>
          <p:nvPr/>
        </p:nvSpPr>
        <p:spPr>
          <a:xfrm>
            <a:off x="41911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16765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541008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541008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79246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Straight Connector 17"/>
          <p:cNvSpPr/>
          <p:nvPr/>
        </p:nvSpPr>
        <p:spPr>
          <a:xfrm>
            <a:off x="54100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46296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810360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455400" y="274320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utside pla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533520" y="595440"/>
            <a:ext cx="8109000" cy="6186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7944840" y="66294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eder and distribution cab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712800" y="1066680"/>
            <a:ext cx="7440480" cy="5149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2560" y="6335640"/>
            <a:ext cx="90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eder cable becoming all-fiber. Some distribution is fiber, more plan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politan area networks (M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 is public network that bridges LAN and WAN, typically spanning 5 to 50 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 Ethernet becoming dominan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ple for customer, extends Ethernet 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technology sophisticated but available, reliable, fairly low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s over carrier fiber optic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ed across business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options: encryption or physical sep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connected to open Internet or consu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ng LANs (sites)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age area networks (S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 many sites to one WAN point of presence (PO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, voice, graphics: bursty, high bandwidth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gabit Ethernet (1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tible with Gigabit Ethernet 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to 50 km range per 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Ethernet switches needed per metro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ilable in many metro areas; can buy fractions of G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G Ethernet (10 Gbps or 10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completely compatible with slower 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sentially compatible with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G Ethernet is close to OC-192, and protocol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up to 4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oming available; can buy fractions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th options have technology (“tags”) to allow network to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switches discover all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Ethernet can have 100,000s of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1T15:51:30Z</cp:lastPrinted>
  <dcterms:modified xsi:type="dcterms:W3CDTF">2013-12-01T16:27:19Z</dcterms:modified>
  <cp:revision>255</cp:revision>
  <dc:subject/>
  <dc:title>1.264 Lecture 5</dc:title>
</cp:coreProperties>
</file>