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6E69-AA35-4EB6-8602-8F82685E4AF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B25A-FB23-41E0-8F49-A29A2E9A2CD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DA9A-4EE8-49A9-A0EA-2DC82A1DE2C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5272-01B4-4B1C-93C9-65A2DB0C4A9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0E23-ADAC-4E9A-9B6F-2916949C59D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1C0-2773-4F84-B07D-F1F354FF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BD7-1A50-4EF0-9A0B-56B00112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B8E-6125-4D97-B18E-F7AE653E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041-514B-4521-937B-BF52BA49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C6A-53A5-4BBB-B317-D8C4763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DBC-6AC9-42F1-AC32-BE55032E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0C9-7FCD-4DD2-A8E9-0C15C7FB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C68-FFD6-40AB-8764-6BD5DF2D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F69-C05B-4C68-A676-A1E8A8FD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BAE-4D28-4465-8BB8-E73BDBE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17E-43B9-4E16-A19C-13F596E3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07D-644E-4AA3-9134-68A5FC2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5410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6761-734F-43EA-9EFB-24F1B85B362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, 6.855J, and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pt 16, 2010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cture 3.  Graph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ro to 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FD97-67E5-4C78-A3FE-C5C08688CA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5" name="Group 183"/>
          <p:cNvGrpSpPr/>
          <p:nvPr/>
        </p:nvGrpSpPr>
        <p:grpSpPr>
          <a:xfrm>
            <a:off x="4343400" y="919080"/>
            <a:ext cx="2219400" cy="5604840"/>
            <a:chOff x="4343400" y="919080"/>
            <a:chExt cx="2219400" cy="5604840"/>
          </a:xfrm>
        </p:grpSpPr>
        <p:sp>
          <p:nvSpPr>
            <p:cNvPr id="346" name="Text Box 36"/>
            <p:cNvSpPr/>
            <p:nvPr/>
          </p:nvSpPr>
          <p:spPr>
            <a:xfrm>
              <a:off x="5950080" y="919080"/>
              <a:ext cx="2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7" name="Group 182"/>
            <p:cNvGrpSpPr/>
            <p:nvPr/>
          </p:nvGrpSpPr>
          <p:grpSpPr>
            <a:xfrm>
              <a:off x="4343400" y="1025280"/>
              <a:ext cx="2219400" cy="5498640"/>
              <a:chOff x="4343400" y="1025280"/>
              <a:chExt cx="2219400" cy="5498640"/>
            </a:xfrm>
          </p:grpSpPr>
          <p:sp>
            <p:nvSpPr>
              <p:cNvPr id="348" name="Text Box 6"/>
              <p:cNvSpPr/>
              <p:nvPr/>
            </p:nvSpPr>
            <p:spPr>
              <a:xfrm>
                <a:off x="5570640" y="261144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Text Box 95"/>
              <p:cNvSpPr/>
              <p:nvPr/>
            </p:nvSpPr>
            <p:spPr>
              <a:xfrm>
                <a:off x="487692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Text Box 2"/>
              <p:cNvSpPr/>
              <p:nvPr/>
            </p:nvSpPr>
            <p:spPr>
              <a:xfrm>
                <a:off x="632160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Text Box 3"/>
              <p:cNvSpPr/>
              <p:nvPr/>
            </p:nvSpPr>
            <p:spPr>
              <a:xfrm>
                <a:off x="5929560" y="60642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Text Box 4"/>
              <p:cNvSpPr/>
              <p:nvPr/>
            </p:nvSpPr>
            <p:spPr>
              <a:xfrm>
                <a:off x="5929560" y="52164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Text Box 5"/>
              <p:cNvSpPr/>
              <p:nvPr/>
            </p:nvSpPr>
            <p:spPr>
              <a:xfrm>
                <a:off x="5931000" y="35193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Text Box 48"/>
              <p:cNvSpPr/>
              <p:nvPr/>
            </p:nvSpPr>
            <p:spPr>
              <a:xfrm>
                <a:off x="4343400" y="3460680"/>
                <a:ext cx="317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Oval 52"/>
              <p:cNvSpPr/>
              <p:nvPr/>
            </p:nvSpPr>
            <p:spPr>
              <a:xfrm>
                <a:off x="4767480" y="3570120"/>
                <a:ext cx="30312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Text Box 61"/>
              <p:cNvSpPr/>
              <p:nvPr/>
            </p:nvSpPr>
            <p:spPr>
              <a:xfrm>
                <a:off x="5931000" y="43671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Oval 75"/>
              <p:cNvSpPr/>
              <p:nvPr/>
            </p:nvSpPr>
            <p:spPr>
              <a:xfrm>
                <a:off x="5596200" y="61722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Oval 77"/>
              <p:cNvSpPr/>
              <p:nvPr/>
            </p:nvSpPr>
            <p:spPr>
              <a:xfrm>
                <a:off x="5597640" y="5303880"/>
                <a:ext cx="30168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79"/>
              <p:cNvSpPr/>
              <p:nvPr/>
            </p:nvSpPr>
            <p:spPr>
              <a:xfrm>
                <a:off x="5596200" y="44370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81"/>
              <p:cNvSpPr/>
              <p:nvPr/>
            </p:nvSpPr>
            <p:spPr>
              <a:xfrm>
                <a:off x="5596200" y="356868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5183280" y="2722320"/>
                <a:ext cx="30168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85"/>
              <p:cNvSpPr/>
              <p:nvPr/>
            </p:nvSpPr>
            <p:spPr>
              <a:xfrm>
                <a:off x="518328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92"/>
              <p:cNvSpPr/>
              <p:nvPr/>
            </p:nvSpPr>
            <p:spPr>
              <a:xfrm>
                <a:off x="601992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Oval 94"/>
              <p:cNvSpPr/>
              <p:nvPr/>
            </p:nvSpPr>
            <p:spPr>
              <a:xfrm>
                <a:off x="5639040" y="1025280"/>
                <a:ext cx="301680" cy="303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98"/>
              <p:cNvSpPr/>
              <p:nvPr/>
            </p:nvSpPr>
            <p:spPr>
              <a:xfrm>
                <a:off x="5878800" y="1328040"/>
                <a:ext cx="24264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99"/>
              <p:cNvSpPr/>
              <p:nvPr/>
            </p:nvSpPr>
            <p:spPr>
              <a:xfrm flipH="1">
                <a:off x="5334120" y="1268280"/>
                <a:ext cx="363600" cy="606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100"/>
              <p:cNvSpPr/>
              <p:nvPr/>
            </p:nvSpPr>
            <p:spPr>
              <a:xfrm>
                <a:off x="5364360" y="2176200"/>
                <a:ext cx="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101"/>
              <p:cNvSpPr/>
              <p:nvPr/>
            </p:nvSpPr>
            <p:spPr>
              <a:xfrm>
                <a:off x="5423040" y="3023280"/>
                <a:ext cx="24300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102"/>
              <p:cNvSpPr/>
              <p:nvPr/>
            </p:nvSpPr>
            <p:spPr>
              <a:xfrm flipH="1">
                <a:off x="4938840" y="3024000"/>
                <a:ext cx="30312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Line 103"/>
              <p:cNvSpPr/>
              <p:nvPr/>
            </p:nvSpPr>
            <p:spPr>
              <a:xfrm>
                <a:off x="5718240" y="387180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104"/>
              <p:cNvSpPr/>
              <p:nvPr/>
            </p:nvSpPr>
            <p:spPr>
              <a:xfrm>
                <a:off x="5718240" y="4719600"/>
                <a:ext cx="0" cy="6048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Line 105"/>
              <p:cNvSpPr/>
              <p:nvPr/>
            </p:nvSpPr>
            <p:spPr>
              <a:xfrm>
                <a:off x="5718240" y="562752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depth first search tre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4" name="Text Box 108"/>
          <p:cNvSpPr/>
          <p:nvPr/>
        </p:nvSpPr>
        <p:spPr>
          <a:xfrm>
            <a:off x="228600" y="1295280"/>
            <a:ext cx="3276720" cy="247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 that each induced subtree has consecutively labeled nod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The descendents are visited in order.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Oval 185"/>
          <p:cNvSpPr/>
          <p:nvPr/>
        </p:nvSpPr>
        <p:spPr>
          <a:xfrm>
            <a:off x="4038480" y="2362320"/>
            <a:ext cx="2971800" cy="4419360"/>
          </a:xfrm>
          <a:prstGeom prst="ellipse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an algorithm is correc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it terminates in finit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obtain a tight upper bound on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4F82-D57C-4F1C-90BB-ABA4F8FE87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useful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divide the algorithm into “chunks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ri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perties that are true throughout the running of the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ngs that chan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unctions that increase monotonically every time the algorithm reenters the same loo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3019-42BF-492A-9999-A7B2E353A54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88D7-8F47-4822-92DD-C64624E9946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609480" y="1371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5C1F-1FB4-4C59-9B43-6EEE0691C38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5720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gorithm In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96"/>
          <p:cNvSpPr/>
          <p:nvPr/>
        </p:nvSpPr>
        <p:spPr>
          <a:xfrm>
            <a:off x="0" y="2819520"/>
            <a:ext cx="198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Nod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9" name="Group 106"/>
          <p:cNvGrpSpPr/>
          <p:nvPr/>
        </p:nvGrpSpPr>
        <p:grpSpPr>
          <a:xfrm>
            <a:off x="990720" y="3352680"/>
            <a:ext cx="6019560" cy="492120"/>
            <a:chOff x="990720" y="3352680"/>
            <a:chExt cx="6019560" cy="492120"/>
          </a:xfrm>
        </p:grpSpPr>
        <p:sp>
          <p:nvSpPr>
            <p:cNvPr id="390" name="Text Box 7"/>
            <p:cNvSpPr/>
            <p:nvPr/>
          </p:nvSpPr>
          <p:spPr>
            <a:xfrm>
              <a:off x="990720" y="33526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S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36"/>
            <p:cNvSpPr/>
            <p:nvPr/>
          </p:nvSpPr>
          <p:spPr>
            <a:xfrm>
              <a:off x="19706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38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4"/>
            <p:cNvSpPr/>
            <p:nvPr/>
          </p:nvSpPr>
          <p:spPr>
            <a:xfrm>
              <a:off x="58903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45"/>
            <p:cNvSpPr/>
            <p:nvPr/>
          </p:nvSpPr>
          <p:spPr>
            <a:xfrm>
              <a:off x="645048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54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1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Rectangle 85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9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104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108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Rectangle 11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114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Rectangle 117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Group 105"/>
          <p:cNvGrpSpPr/>
          <p:nvPr/>
        </p:nvGrpSpPr>
        <p:grpSpPr>
          <a:xfrm>
            <a:off x="1600200" y="990720"/>
            <a:ext cx="5070600" cy="2182680"/>
            <a:chOff x="1600200" y="990720"/>
            <a:chExt cx="5070600" cy="2182680"/>
          </a:xfrm>
        </p:grpSpPr>
        <p:sp>
          <p:nvSpPr>
            <p:cNvPr id="414" name="Text Box 2"/>
            <p:cNvSpPr/>
            <p:nvPr/>
          </p:nvSpPr>
          <p:spPr>
            <a:xfrm>
              <a:off x="5340960" y="192600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3"/>
            <p:cNvSpPr/>
            <p:nvPr/>
          </p:nvSpPr>
          <p:spPr>
            <a:xfrm>
              <a:off x="6019920" y="2439000"/>
              <a:ext cx="65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"/>
            <p:cNvSpPr/>
            <p:nvPr/>
          </p:nvSpPr>
          <p:spPr>
            <a:xfrm>
              <a:off x="3844440" y="173916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"/>
            <p:cNvSpPr/>
            <p:nvPr/>
          </p:nvSpPr>
          <p:spPr>
            <a:xfrm>
              <a:off x="453024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272232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8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22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23"/>
            <p:cNvSpPr/>
            <p:nvPr/>
          </p:nvSpPr>
          <p:spPr>
            <a:xfrm>
              <a:off x="2223360" y="2113200"/>
              <a:ext cx="130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 flipV="1">
              <a:off x="2971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25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Line 26"/>
            <p:cNvSpPr/>
            <p:nvPr/>
          </p:nvSpPr>
          <p:spPr>
            <a:xfrm>
              <a:off x="3034080" y="2986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27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2098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2971800" y="1364760"/>
              <a:ext cx="62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3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Line 40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1600200" y="1926000"/>
              <a:ext cx="2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Oval 50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Line 5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Oval 52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2472840" y="99072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5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Line 56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Oval 57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60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61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2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Line 63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Oval 64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66"/>
            <p:cNvSpPr/>
            <p:nvPr/>
          </p:nvSpPr>
          <p:spPr>
            <a:xfrm>
              <a:off x="615132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6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70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72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73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4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Oval 7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Oval 7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9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80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8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Text Box 84"/>
            <p:cNvSpPr/>
            <p:nvPr/>
          </p:nvSpPr>
          <p:spPr>
            <a:xfrm>
              <a:off x="4343400" y="2515320"/>
              <a:ext cx="5054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86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Line 87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88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89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Oval 90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Oval 9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94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Oval 95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97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Oval 98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01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102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03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0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06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09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10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Oval 11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113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Oval 11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Oval 116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Oval 11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Oval 11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TextBox 107"/>
          <p:cNvSpPr/>
          <p:nvPr/>
        </p:nvSpPr>
        <p:spPr>
          <a:xfrm>
            <a:off x="0" y="4114800"/>
            <a:ext cx="8839080" cy="152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variants: whenever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 marked node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nodes on LIST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marked node j is not on LIST, then A(j) has been fully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ving the correctness of the invaria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mportant step in proving algorithm correctness: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 algorithm invariants are true using induc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y are true after the initial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ing that they are true at the beginning of the k-th iteration of the while loop, prove that they are true at the beginning of the subsequent iteration of the while loop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1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81C4-A0F1-47EF-B325-B8846830D7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ings that change and proof of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that change  between successive times that the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a new node is marked and added to LIST, or a new node is fully scanned and deleted from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5C7-1B95-4694-89CD-C2562564D18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4920" y="3289320"/>
            <a:ext cx="8839080" cy="180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mber of iterations of while loop is at most 2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the algorithm terminates in O(n) calls of the “while loop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33520" y="990360"/>
            <a:ext cx="7727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terminates when LIST = 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9779-A284-49C3-B6BF-774703595D8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32"/>
          <p:cNvSpPr/>
          <p:nvPr/>
        </p:nvSpPr>
        <p:spPr>
          <a:xfrm>
            <a:off x="0" y="1905120"/>
            <a:ext cx="2362320" cy="147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S = 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 = un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4" name="Group 37"/>
          <p:cNvGrpSpPr/>
          <p:nvPr/>
        </p:nvGrpSpPr>
        <p:grpSpPr>
          <a:xfrm>
            <a:off x="2743200" y="1600200"/>
            <a:ext cx="5943600" cy="2743200"/>
            <a:chOff x="2743200" y="1600200"/>
            <a:chExt cx="5943600" cy="2743200"/>
          </a:xfrm>
        </p:grpSpPr>
        <p:sp>
          <p:nvSpPr>
            <p:cNvPr id="505" name="Oval 4"/>
            <p:cNvSpPr/>
            <p:nvPr/>
          </p:nvSpPr>
          <p:spPr>
            <a:xfrm>
              <a:off x="6629400" y="20192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5"/>
            <p:cNvSpPr/>
            <p:nvPr/>
          </p:nvSpPr>
          <p:spPr>
            <a:xfrm>
              <a:off x="48769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6"/>
            <p:cNvSpPr/>
            <p:nvPr/>
          </p:nvSpPr>
          <p:spPr>
            <a:xfrm>
              <a:off x="487692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40384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80773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4876920" y="1981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Oval 10"/>
            <p:cNvSpPr/>
            <p:nvPr/>
          </p:nvSpPr>
          <p:spPr>
            <a:xfrm>
              <a:off x="327636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66340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V="1">
              <a:off x="3581280" y="3124080"/>
              <a:ext cx="45720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3662280" y="3810240"/>
              <a:ext cx="121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"/>
            <p:cNvSpPr/>
            <p:nvPr/>
          </p:nvSpPr>
          <p:spPr>
            <a:xfrm>
              <a:off x="4348080" y="3162240"/>
              <a:ext cx="5331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4348080" y="2323800"/>
              <a:ext cx="6094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5105520" y="2361960"/>
              <a:ext cx="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 flipV="1">
              <a:off x="5262480" y="304776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V="1">
              <a:off x="5262480" y="228564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19"/>
            <p:cNvSpPr/>
            <p:nvPr/>
          </p:nvSpPr>
          <p:spPr>
            <a:xfrm>
              <a:off x="5262480" y="2209680"/>
              <a:ext cx="129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>
              <a:off x="7010640" y="2286000"/>
              <a:ext cx="106668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21"/>
            <p:cNvSpPr/>
            <p:nvPr/>
          </p:nvSpPr>
          <p:spPr>
            <a:xfrm>
              <a:off x="7015320" y="3009960"/>
              <a:ext cx="9903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6862680" y="2400120"/>
              <a:ext cx="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4495680" y="3048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5" name="Group 37"/>
            <p:cNvGrpSpPr/>
            <p:nvPr/>
          </p:nvGrpSpPr>
          <p:grpSpPr>
            <a:xfrm>
              <a:off x="3276360" y="1981080"/>
              <a:ext cx="1981080" cy="1981080"/>
              <a:chOff x="3276360" y="1981080"/>
              <a:chExt cx="1981080" cy="1981080"/>
            </a:xfrm>
          </p:grpSpPr>
          <p:sp>
            <p:nvSpPr>
              <p:cNvPr id="526" name="Oval 25"/>
              <p:cNvSpPr/>
              <p:nvPr/>
            </p:nvSpPr>
            <p:spPr>
              <a:xfrm>
                <a:off x="32763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Oval 26"/>
              <p:cNvSpPr/>
              <p:nvPr/>
            </p:nvSpPr>
            <p:spPr>
              <a:xfrm>
                <a:off x="403848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Oval 27"/>
              <p:cNvSpPr/>
              <p:nvPr/>
            </p:nvSpPr>
            <p:spPr>
              <a:xfrm>
                <a:off x="48765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Oval 28"/>
              <p:cNvSpPr/>
              <p:nvPr/>
            </p:nvSpPr>
            <p:spPr>
              <a:xfrm>
                <a:off x="487656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Oval 29"/>
              <p:cNvSpPr/>
              <p:nvPr/>
            </p:nvSpPr>
            <p:spPr>
              <a:xfrm>
                <a:off x="4876560" y="19810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Oval 30"/>
            <p:cNvSpPr/>
            <p:nvPr/>
          </p:nvSpPr>
          <p:spPr>
            <a:xfrm>
              <a:off x="2743200" y="1676160"/>
              <a:ext cx="3124080" cy="26672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31"/>
            <p:cNvSpPr/>
            <p:nvPr/>
          </p:nvSpPr>
          <p:spPr>
            <a:xfrm flipH="1">
              <a:off x="3580560" y="2209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34"/>
            <p:cNvSpPr/>
            <p:nvPr/>
          </p:nvSpPr>
          <p:spPr>
            <a:xfrm>
              <a:off x="6019920" y="1600200"/>
              <a:ext cx="2666880" cy="24386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 flipH="1">
              <a:off x="7238520" y="3276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Text Box 36"/>
          <p:cNvSpPr/>
          <p:nvPr/>
        </p:nvSpPr>
        <p:spPr>
          <a:xfrm>
            <a:off x="0" y="5562720"/>
            <a:ext cx="81532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no arc (i,j) is directed from S to T.  Otherwise, by Invariant 2, j would have been marked when (i, j) was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0" y="4781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1, all nodes in S are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0" y="518148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3, all arcs out of S have been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0" y="6248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fore, no node in T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E0E1-5711-43AD-8459-4BDEEECBD63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utset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lary of algorithm’s correctnes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no directed path from s to t if and only if the following is tru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a partition of the node set N into subsets S and T = N - S such that there is no arc directed from a node in S to a node in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44"/>
          <p:cNvGrpSpPr/>
          <p:nvPr/>
        </p:nvGrpSpPr>
        <p:grpSpPr>
          <a:xfrm>
            <a:off x="2362320" y="4343400"/>
            <a:ext cx="1828800" cy="1905120"/>
            <a:chOff x="2362320" y="4343400"/>
            <a:chExt cx="1828800" cy="1905120"/>
          </a:xfrm>
        </p:grpSpPr>
        <p:sp>
          <p:nvSpPr>
            <p:cNvPr id="543" name="Oval 36"/>
            <p:cNvSpPr/>
            <p:nvPr/>
          </p:nvSpPr>
          <p:spPr>
            <a:xfrm>
              <a:off x="2362320" y="4343400"/>
              <a:ext cx="1828800" cy="1905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Text Box 37"/>
            <p:cNvSpPr/>
            <p:nvPr/>
          </p:nvSpPr>
          <p:spPr>
            <a:xfrm flipH="1">
              <a:off x="2668320" y="4631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40"/>
            <p:cNvSpPr/>
            <p:nvPr/>
          </p:nvSpPr>
          <p:spPr>
            <a:xfrm>
              <a:off x="3154680" y="5555520"/>
              <a:ext cx="182880" cy="173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42"/>
            <p:cNvSpPr/>
            <p:nvPr/>
          </p:nvSpPr>
          <p:spPr>
            <a:xfrm flipH="1">
              <a:off x="3337560" y="538344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7" name="Group 45"/>
          <p:cNvGrpSpPr/>
          <p:nvPr/>
        </p:nvGrpSpPr>
        <p:grpSpPr>
          <a:xfrm>
            <a:off x="5029200" y="4114800"/>
            <a:ext cx="2666880" cy="2438280"/>
            <a:chOff x="5029200" y="4114800"/>
            <a:chExt cx="2666880" cy="2438280"/>
          </a:xfrm>
        </p:grpSpPr>
        <p:sp>
          <p:nvSpPr>
            <p:cNvPr id="548" name="Oval 38"/>
            <p:cNvSpPr/>
            <p:nvPr/>
          </p:nvSpPr>
          <p:spPr>
            <a:xfrm>
              <a:off x="5029200" y="4114800"/>
              <a:ext cx="2666880" cy="243828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Text Box 39"/>
            <p:cNvSpPr/>
            <p:nvPr/>
          </p:nvSpPr>
          <p:spPr>
            <a:xfrm flipH="1">
              <a:off x="6247800" y="5790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Oval 41"/>
            <p:cNvSpPr/>
            <p:nvPr/>
          </p:nvSpPr>
          <p:spPr>
            <a:xfrm>
              <a:off x="5715000" y="4876560"/>
              <a:ext cx="2286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Text Box 43"/>
            <p:cNvSpPr/>
            <p:nvPr/>
          </p:nvSpPr>
          <p:spPr>
            <a:xfrm flipH="1">
              <a:off x="594288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C087-DD21-4E55-9F9A-BAB1A951959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228600" y="91440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ialize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 node i in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rk node j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d(j) :=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dd node j to the end of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delete node i from LIS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0" y="1338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228600" y="4114800"/>
            <a:ext cx="373392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while loop (other than arc scan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&lt; 2n iterations of the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n) time in tot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4419720" y="4114800"/>
            <a:ext cx="373356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scanning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arc scan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m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m) time in tot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2438280" y="6381720"/>
            <a:ext cx="3733920" cy="39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Running time:  O(n + 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378B-4FA6-4A28-BC46-25C07F14554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 Different ways of searching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ructures to support network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cal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for most algorithms considered in this su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BDA9-F1E3-4887-B44F-74EEB770A50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e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905120" y="4495680"/>
            <a:ext cx="5029200" cy="160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marking takes O(n)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else takes O(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0DC8-A270-4FB7-98F2-EF2494C0137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728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 search determines all nodes reachable from node s in O(n + 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U.S. Presidents have worn gl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(before Obama) has been an only chil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was a bache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James Buchanan was a bachelo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 grew marijuana on his Pla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’s false teeth were made of woo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They were made of whale b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ree of the first 10 Presidents died on Jul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Thomas Jefferson, John Adams, James Monro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hn Quincy Adams kept a pet alligator in the East Room of the White Ho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vin Coolidge believed that the world was fla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lse.  But Andrew Jackson di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52280" y="685800"/>
            <a:ext cx="8915400" cy="609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D36C-6D00-4971-A1EB-34B6380643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nding all connected components in an undirected grap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6476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dth first search will find a connected component of an undirected graph in time proportional to the number of arcs in the component.  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n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undirected graph is a maximally connected subgraph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all components:  Maintain a set U of unmarked nod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a node from U after it is mark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each component is searched, select a node of U and begin a search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time O(1) per selection and de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6705720" y="1828800"/>
            <a:ext cx="2209680" cy="3200400"/>
            <a:chOff x="6705720" y="1828800"/>
            <a:chExt cx="2209680" cy="3200400"/>
          </a:xfrm>
        </p:grpSpPr>
        <p:sp>
          <p:nvSpPr>
            <p:cNvPr id="576" name="Oval 5"/>
            <p:cNvSpPr/>
            <p:nvPr/>
          </p:nvSpPr>
          <p:spPr>
            <a:xfrm>
              <a:off x="6775560" y="182880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2b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6705720" y="2971800"/>
              <a:ext cx="21416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Oval 7"/>
            <p:cNvSpPr/>
            <p:nvPr/>
          </p:nvSpPr>
          <p:spPr>
            <a:xfrm>
              <a:off x="6775560" y="419112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4C36-6114-419A-9882-9735AEF4CC1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bf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76320" y="1249200"/>
            <a:ext cx="83818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228600" y="2819520"/>
            <a:ext cx="838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d(j) be the fewest number of arcs on a path from s to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228600" y="3657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ffices to prove a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.  If d(i) &lt; d(j), then i is marked befor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228600" y="48769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he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 is true, then nodes are marked in order of increasing distance from node 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C6A3-040D-4ACE-ACCC-3FD2FD53938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lect node 5 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57200" y="4189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Rectangle 36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Rectangle 37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Rectangle 38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Rectangle 39"/>
          <p:cNvSpPr/>
          <p:nvPr/>
        </p:nvSpPr>
        <p:spPr>
          <a:xfrm>
            <a:off x="45720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Rectangle 40"/>
          <p:cNvSpPr/>
          <p:nvPr/>
        </p:nvSpPr>
        <p:spPr>
          <a:xfrm>
            <a:off x="51814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Rectangle 41"/>
          <p:cNvSpPr/>
          <p:nvPr/>
        </p:nvSpPr>
        <p:spPr>
          <a:xfrm>
            <a:off x="57913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64008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Rectangle 55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Rectangle 60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Rectangle 69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8" name="Group 58"/>
          <p:cNvGrpSpPr/>
          <p:nvPr/>
        </p:nvGrpSpPr>
        <p:grpSpPr>
          <a:xfrm>
            <a:off x="2057400" y="1066680"/>
            <a:ext cx="4495680" cy="2598120"/>
            <a:chOff x="2057400" y="1066680"/>
            <a:chExt cx="4495680" cy="2598120"/>
          </a:xfrm>
        </p:grpSpPr>
        <p:sp>
          <p:nvSpPr>
            <p:cNvPr id="599" name="Text Box 2"/>
            <p:cNvSpPr/>
            <p:nvPr/>
          </p:nvSpPr>
          <p:spPr>
            <a:xfrm>
              <a:off x="5562720" y="10666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51"/>
            <p:cNvSpPr/>
            <p:nvPr/>
          </p:nvSpPr>
          <p:spPr>
            <a:xfrm>
              <a:off x="3124080" y="121896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Group 57"/>
            <p:cNvGrpSpPr/>
            <p:nvPr/>
          </p:nvGrpSpPr>
          <p:grpSpPr>
            <a:xfrm>
              <a:off x="2057400" y="1295280"/>
              <a:ext cx="4495680" cy="2369520"/>
              <a:chOff x="2057400" y="1295280"/>
              <a:chExt cx="4495680" cy="2369520"/>
            </a:xfrm>
          </p:grpSpPr>
          <p:sp>
            <p:nvSpPr>
              <p:cNvPr id="602" name="Text Box 3"/>
              <p:cNvSpPr/>
              <p:nvPr/>
            </p:nvSpPr>
            <p:spPr>
              <a:xfrm>
                <a:off x="3412080" y="326592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Oval 6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Oval 7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Oval 8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Oval 9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Oval 10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Oval 11"/>
              <p:cNvSpPr/>
              <p:nvPr/>
            </p:nvSpPr>
            <p:spPr>
              <a:xfrm>
                <a:off x="464400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Oval 12"/>
              <p:cNvSpPr/>
              <p:nvPr/>
            </p:nvSpPr>
            <p:spPr>
              <a:xfrm>
                <a:off x="6245280" y="30196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Oval 13"/>
              <p:cNvSpPr/>
              <p:nvPr/>
            </p:nvSpPr>
            <p:spPr>
              <a:xfrm>
                <a:off x="5444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Oval 14"/>
              <p:cNvSpPr/>
              <p:nvPr/>
            </p:nvSpPr>
            <p:spPr>
              <a:xfrm>
                <a:off x="624528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Line 15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Line 1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Line 17"/>
              <p:cNvSpPr/>
              <p:nvPr/>
            </p:nvSpPr>
            <p:spPr>
              <a:xfrm>
                <a:off x="4951800" y="141840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Line 18"/>
              <p:cNvSpPr/>
              <p:nvPr/>
            </p:nvSpPr>
            <p:spPr>
              <a:xfrm flipV="1">
                <a:off x="5690880" y="16642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Line 19"/>
              <p:cNvSpPr/>
              <p:nvPr/>
            </p:nvSpPr>
            <p:spPr>
              <a:xfrm flipH="1" flipV="1">
                <a:off x="4889880" y="1541160"/>
                <a:ext cx="677160" cy="677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Line 20"/>
              <p:cNvSpPr/>
              <p:nvPr/>
            </p:nvSpPr>
            <p:spPr>
              <a:xfrm flipH="1">
                <a:off x="4150800" y="16030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Line 21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Text Box 22"/>
              <p:cNvSpPr/>
              <p:nvPr/>
            </p:nvSpPr>
            <p:spPr>
              <a:xfrm>
                <a:off x="4274280" y="234216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Line 23"/>
              <p:cNvSpPr/>
              <p:nvPr/>
            </p:nvSpPr>
            <p:spPr>
              <a:xfrm flipV="1">
                <a:off x="34120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Line 24"/>
              <p:cNvSpPr/>
              <p:nvPr/>
            </p:nvSpPr>
            <p:spPr>
              <a:xfrm>
                <a:off x="4151160" y="252684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Line 25"/>
              <p:cNvSpPr/>
              <p:nvPr/>
            </p:nvSpPr>
            <p:spPr>
              <a:xfrm>
                <a:off x="3473640" y="32043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Line 26"/>
              <p:cNvSpPr/>
              <p:nvPr/>
            </p:nvSpPr>
            <p:spPr>
              <a:xfrm>
                <a:off x="4951800" y="326592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Line 27"/>
              <p:cNvSpPr/>
              <p:nvPr/>
            </p:nvSpPr>
            <p:spPr>
              <a:xfrm flipH="1" flipV="1">
                <a:off x="5690880" y="24652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Line 28"/>
              <p:cNvSpPr/>
              <p:nvPr/>
            </p:nvSpPr>
            <p:spPr>
              <a:xfrm flipV="1">
                <a:off x="6429960" y="1726200"/>
                <a:ext cx="0" cy="12931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Line 29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Line 30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Line 31"/>
              <p:cNvSpPr/>
              <p:nvPr/>
            </p:nvSpPr>
            <p:spPr>
              <a:xfrm flipH="1">
                <a:off x="4274280" y="23421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Line 32"/>
              <p:cNvSpPr/>
              <p:nvPr/>
            </p:nvSpPr>
            <p:spPr>
              <a:xfrm flipV="1">
                <a:off x="489024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0" name="Oval 33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" name="Text Box 48"/>
              <p:cNvSpPr/>
              <p:nvPr/>
            </p:nvSpPr>
            <p:spPr>
              <a:xfrm>
                <a:off x="2057400" y="215748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2" name="Line 49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50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Line 54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Oval 56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Line 57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Oval 58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Oval 62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6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Oval 67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Oval 72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TextBox 59"/>
          <p:cNvSpPr/>
          <p:nvPr/>
        </p:nvSpPr>
        <p:spPr>
          <a:xfrm>
            <a:off x="380880" y="5105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If d(i) &lt; d(j), then i is marked before j.  (Note that no unmarked node has a distance that is less than d(4)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2F51-8E36-41D9-A8FF-1C95B82E0CC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liminary to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81120" y="3428640"/>
            <a:ext cx="3581640" cy="29718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2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one can relabel the nodes so that for each arc (i,j),  i &lt; j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4"/>
          <p:cNvSpPr/>
          <p:nvPr/>
        </p:nvSpPr>
        <p:spPr>
          <a:xfrm>
            <a:off x="228600" y="1066680"/>
            <a:ext cx="4343400" cy="204516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each node has at least one arc going out, then the first inadmissible arc of a depth first search determine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5"/>
          <p:cNvSpPr/>
          <p:nvPr/>
        </p:nvSpPr>
        <p:spPr>
          <a:xfrm>
            <a:off x="228600" y="3886200"/>
            <a:ext cx="4343400" cy="24354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there is a node in G with no arcs going out.  Similarly, there is at least one node in G with no arcs coming i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36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7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38"/>
          <p:cNvSpPr/>
          <p:nvPr/>
        </p:nvSpPr>
        <p:spPr>
          <a:xfrm>
            <a:off x="662472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Oval 39"/>
          <p:cNvSpPr/>
          <p:nvPr/>
        </p:nvSpPr>
        <p:spPr>
          <a:xfrm>
            <a:off x="57862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Oval 41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42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43"/>
          <p:cNvSpPr/>
          <p:nvPr/>
        </p:nvSpPr>
        <p:spPr>
          <a:xfrm>
            <a:off x="83818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44"/>
          <p:cNvSpPr/>
          <p:nvPr/>
        </p:nvSpPr>
        <p:spPr>
          <a:xfrm flipV="1">
            <a:off x="5329080" y="228600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45"/>
          <p:cNvSpPr/>
          <p:nvPr/>
        </p:nvSpPr>
        <p:spPr>
          <a:xfrm>
            <a:off x="5410080" y="2971800"/>
            <a:ext cx="12193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46"/>
          <p:cNvSpPr/>
          <p:nvPr/>
        </p:nvSpPr>
        <p:spPr>
          <a:xfrm>
            <a:off x="6095880" y="2324160"/>
            <a:ext cx="53352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47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8"/>
          <p:cNvSpPr/>
          <p:nvPr/>
        </p:nvSpPr>
        <p:spPr>
          <a:xfrm>
            <a:off x="6853320" y="15238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9"/>
          <p:cNvSpPr/>
          <p:nvPr/>
        </p:nvSpPr>
        <p:spPr>
          <a:xfrm flipV="1">
            <a:off x="7010280" y="220932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50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51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55"/>
          <p:cNvSpPr/>
          <p:nvPr/>
        </p:nvSpPr>
        <p:spPr>
          <a:xfrm>
            <a:off x="8610480" y="156204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56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57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8"/>
          <p:cNvSpPr/>
          <p:nvPr/>
        </p:nvSpPr>
        <p:spPr>
          <a:xfrm flipV="1">
            <a:off x="5334120" y="22860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59"/>
          <p:cNvSpPr/>
          <p:nvPr/>
        </p:nvSpPr>
        <p:spPr>
          <a:xfrm>
            <a:off x="579132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61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Oval 62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63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Oval 64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65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66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7404-A60A-4532-BDC6-DB829EBB17E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pological order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:= indegree(j)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: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 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= 0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i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 node i from LIST and delete it from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:= next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(i) := n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(i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gree(j) := indegree(j) –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= 0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j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xt &lt; 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contains a directed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is acyclic and the order is topolog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5715000" y="228600"/>
            <a:ext cx="26668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91BC-B6DF-4B5A-94AD-5B564C5D89C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variant For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t receives an or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 (at the beginning of the while loo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420480">
              <a:spcBef>
                <a:spcPts val="601"/>
              </a:spcBef>
              <a:spcAft>
                <a:spcPts val="1500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gree(i) is the number of arcs directed to i from nodes that are not marke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if j is on LIST, then there are no arcs into node j from unmarked nod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algorithm ends before labeling all nodes, then there is a directed cycle in the unmarked nodes.  </a:t>
            </a:r>
            <a:r>
              <a:rPr b="1" lang="en-US" sz="2000" spc="-1" strike="noStrike">
                <a:solidFill>
                  <a:srgbClr val="0a0aff"/>
                </a:solidFill>
                <a:latin typeface="Arial"/>
              </a:rPr>
              <a:t>Every unmarked node has at least one incoming arc, and so there is a directed cyc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24F6-5103-4E80-B8BD-9A07A59961C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arching a Directed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LGORITHM SEARC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PUT: A directed network G, and node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: The set S = {j : there is a directed path from s to j in G}.  These are the node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ach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s.  For each node j ∈ S\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 node that precedes j on some path from s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 (pred(2) = 1, pred(8)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9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99" name="Oval 122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123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Oval 124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125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126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7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128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29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130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131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32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Line 133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134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Line 135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136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137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38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39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40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141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142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143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144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145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146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147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148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" name="Group 174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127" name="Oval 175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Oval 176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Oval 177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Oval 178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Oval 179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Oval 180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Oval 181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Oval 182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Oval 183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Line 184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Line 185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Line 186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Line 187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Line 188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89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Line 190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191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Line 192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193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194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95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96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7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98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99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00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01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Group 70"/>
          <p:cNvGrpSpPr/>
          <p:nvPr/>
        </p:nvGrpSpPr>
        <p:grpSpPr>
          <a:xfrm>
            <a:off x="1752480" y="4114800"/>
            <a:ext cx="4648320" cy="2286000"/>
            <a:chOff x="1752480" y="4114800"/>
            <a:chExt cx="4648320" cy="2286000"/>
          </a:xfrm>
        </p:grpSpPr>
        <p:sp>
          <p:nvSpPr>
            <p:cNvPr id="155" name="Line 51"/>
            <p:cNvSpPr/>
            <p:nvPr/>
          </p:nvSpPr>
          <p:spPr>
            <a:xfrm flipV="1">
              <a:off x="1752480" y="4343400"/>
              <a:ext cx="76176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1904760" y="525780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59"/>
            <p:cNvSpPr/>
            <p:nvPr/>
          </p:nvSpPr>
          <p:spPr>
            <a:xfrm>
              <a:off x="1752480" y="548640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Line 64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69"/>
            <p:cNvSpPr/>
            <p:nvPr/>
          </p:nvSpPr>
          <p:spPr>
            <a:xfrm>
              <a:off x="3733560" y="548640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75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82"/>
            <p:cNvSpPr/>
            <p:nvPr/>
          </p:nvSpPr>
          <p:spPr>
            <a:xfrm flipV="1">
              <a:off x="4648320" y="548604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Line 86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6AAA-ABB1-42DA-9F40-D52892C334D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in O(n+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starting point for many algorithms that involve acyclic graph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9DCB-3DD4-4B4B-A08C-AFA2FD4118B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aph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s all nodes reachable from s in O(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onnected components of an undirected grap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Validation (proofs of correctnes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ve invariants using in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things tha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755A-B376-403F-9BBD-F2FB279A63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 (or orde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unning time is O(n+m) using simple data structures and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ry important for preproc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533520" y="685800"/>
            <a:ext cx="74674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arked nodes, admissible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eithe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nitially only node s is marked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ode is marked, it is reachable from node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 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dmissib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node i is marked and j is n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094-FCEF-49D7-8E54-3C30C6B5E2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6" name="Group 169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67" name="Oval 122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23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124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125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26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27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28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29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30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131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32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133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134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135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136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137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138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139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140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141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142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Line 143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Line 144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45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46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47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48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4" name="Group 174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95" name="Oval 175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176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Oval 177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178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79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180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181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Oval 182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183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184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185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186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Line 187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Line 188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Line 189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Line 190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Line 191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Line 192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Line 193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194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195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Line 196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197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Line 198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Line 199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Line 200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Line 201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Group 118"/>
          <p:cNvGrpSpPr/>
          <p:nvPr/>
        </p:nvGrpSpPr>
        <p:grpSpPr>
          <a:xfrm>
            <a:off x="762120" y="3885840"/>
            <a:ext cx="2666880" cy="1905480"/>
            <a:chOff x="762120" y="3885840"/>
            <a:chExt cx="2666880" cy="1905480"/>
          </a:xfrm>
        </p:grpSpPr>
        <p:sp>
          <p:nvSpPr>
            <p:cNvPr id="223" name="Line 51"/>
            <p:cNvSpPr/>
            <p:nvPr/>
          </p:nvSpPr>
          <p:spPr>
            <a:xfrm flipV="1">
              <a:off x="762120" y="388584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59"/>
            <p:cNvSpPr/>
            <p:nvPr/>
          </p:nvSpPr>
          <p:spPr>
            <a:xfrm>
              <a:off x="762120" y="502920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69"/>
            <p:cNvSpPr/>
            <p:nvPr/>
          </p:nvSpPr>
          <p:spPr>
            <a:xfrm>
              <a:off x="2743200" y="5029200"/>
              <a:ext cx="685800" cy="68580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7" name="Oval 176"/>
          <p:cNvSpPr/>
          <p:nvPr/>
        </p:nvSpPr>
        <p:spPr>
          <a:xfrm>
            <a:off x="6400800" y="35812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Line 185"/>
          <p:cNvSpPr/>
          <p:nvPr/>
        </p:nvSpPr>
        <p:spPr>
          <a:xfrm>
            <a:off x="6248520" y="47242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Box 129"/>
          <p:cNvSpPr/>
          <p:nvPr/>
        </p:nvSpPr>
        <p:spPr>
          <a:xfrm>
            <a:off x="7010280" y="3352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rk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Box 130"/>
          <p:cNvSpPr/>
          <p:nvPr/>
        </p:nvSpPr>
        <p:spPr>
          <a:xfrm>
            <a:off x="7086600" y="4343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missible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DC99-CB95-43F2-B2AD-9EE98A06E7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nning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33" name="Group 57"/>
          <p:cNvGrpSpPr/>
          <p:nvPr/>
        </p:nvGrpSpPr>
        <p:grpSpPr>
          <a:xfrm>
            <a:off x="380880" y="2209680"/>
            <a:ext cx="6781680" cy="685800"/>
            <a:chOff x="380880" y="2209680"/>
            <a:chExt cx="6781680" cy="685800"/>
          </a:xfrm>
        </p:grpSpPr>
        <p:sp>
          <p:nvSpPr>
            <p:cNvPr id="234" name="Rectangle 5"/>
            <p:cNvSpPr/>
            <p:nvPr/>
          </p:nvSpPr>
          <p:spPr>
            <a:xfrm>
              <a:off x="914400" y="2209680"/>
              <a:ext cx="609480" cy="6858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380880" y="22860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371600" y="24382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1905120" y="2209680"/>
              <a:ext cx="76176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2666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2895480" y="2438280"/>
              <a:ext cx="85428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6386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" name="Group 51"/>
            <p:cNvGrpSpPr/>
            <p:nvPr/>
          </p:nvGrpSpPr>
          <p:grpSpPr>
            <a:xfrm>
              <a:off x="6400800" y="2209680"/>
              <a:ext cx="761760" cy="634680"/>
              <a:chOff x="6400800" y="2209680"/>
              <a:chExt cx="761760" cy="634680"/>
            </a:xfrm>
          </p:grpSpPr>
          <p:sp>
            <p:nvSpPr>
              <p:cNvPr id="242" name="Rectangle 18"/>
              <p:cNvSpPr/>
              <p:nvPr/>
            </p:nvSpPr>
            <p:spPr>
              <a:xfrm>
                <a:off x="6400800" y="2209680"/>
                <a:ext cx="761760" cy="634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6654240" y="2400120"/>
                <a:ext cx="254160" cy="25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21"/>
            <p:cNvSpPr/>
            <p:nvPr/>
          </p:nvSpPr>
          <p:spPr>
            <a:xfrm>
              <a:off x="3809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24"/>
            <p:cNvSpPr/>
            <p:nvPr/>
          </p:nvSpPr>
          <p:spPr>
            <a:xfrm>
              <a:off x="457200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4800600" y="2438280"/>
              <a:ext cx="85392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7" name="Group 56"/>
          <p:cNvGrpSpPr/>
          <p:nvPr/>
        </p:nvGrpSpPr>
        <p:grpSpPr>
          <a:xfrm>
            <a:off x="838080" y="4038480"/>
            <a:ext cx="2133720" cy="2514600"/>
            <a:chOff x="838080" y="4038480"/>
            <a:chExt cx="2133720" cy="2514600"/>
          </a:xfrm>
        </p:grpSpPr>
        <p:sp>
          <p:nvSpPr>
            <p:cNvPr id="248" name="Oval 27"/>
            <p:cNvSpPr/>
            <p:nvPr/>
          </p:nvSpPr>
          <p:spPr>
            <a:xfrm>
              <a:off x="8380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28"/>
            <p:cNvSpPr/>
            <p:nvPr/>
          </p:nvSpPr>
          <p:spPr>
            <a:xfrm>
              <a:off x="2438280" y="40384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24382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2438280" y="60199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31"/>
            <p:cNvSpPr/>
            <p:nvPr/>
          </p:nvSpPr>
          <p:spPr>
            <a:xfrm flipV="1">
              <a:off x="1371600" y="4495680"/>
              <a:ext cx="1066680" cy="609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32"/>
            <p:cNvSpPr/>
            <p:nvPr/>
          </p:nvSpPr>
          <p:spPr>
            <a:xfrm>
              <a:off x="1371600" y="5334120"/>
              <a:ext cx="1066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1295280" y="5486400"/>
              <a:ext cx="114300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1600200" y="1219320"/>
            <a:ext cx="1828800" cy="914400"/>
            <a:chOff x="1600200" y="1219320"/>
            <a:chExt cx="1828800" cy="914400"/>
          </a:xfrm>
        </p:grpSpPr>
        <p:sp>
          <p:nvSpPr>
            <p:cNvPr id="256" name="Text Box 36"/>
            <p:cNvSpPr/>
            <p:nvPr/>
          </p:nvSpPr>
          <p:spPr>
            <a:xfrm>
              <a:off x="1600200" y="12193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urrentArc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7"/>
            <p:cNvSpPr/>
            <p:nvPr/>
          </p:nvSpPr>
          <p:spPr>
            <a:xfrm>
              <a:off x="2286000" y="1600200"/>
              <a:ext cx="0" cy="533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Line 38"/>
          <p:cNvSpPr/>
          <p:nvPr/>
        </p:nvSpPr>
        <p:spPr>
          <a:xfrm>
            <a:off x="1295280" y="5486400"/>
            <a:ext cx="11430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Group 53"/>
          <p:cNvGrpSpPr/>
          <p:nvPr/>
        </p:nvGrpSpPr>
        <p:grpSpPr>
          <a:xfrm>
            <a:off x="1447920" y="1143000"/>
            <a:ext cx="3886200" cy="990720"/>
            <a:chOff x="1447920" y="1143000"/>
            <a:chExt cx="3886200" cy="990720"/>
          </a:xfrm>
        </p:grpSpPr>
        <p:grpSp>
          <p:nvGrpSpPr>
            <p:cNvPr id="260" name="Group 50"/>
            <p:cNvGrpSpPr/>
            <p:nvPr/>
          </p:nvGrpSpPr>
          <p:grpSpPr>
            <a:xfrm>
              <a:off x="3505320" y="1219320"/>
              <a:ext cx="1828800" cy="914400"/>
              <a:chOff x="3505320" y="1219320"/>
              <a:chExt cx="1828800" cy="914400"/>
            </a:xfrm>
          </p:grpSpPr>
          <p:sp>
            <p:nvSpPr>
              <p:cNvPr id="261" name="Text Box 41"/>
              <p:cNvSpPr/>
              <p:nvPr/>
            </p:nvSpPr>
            <p:spPr>
              <a:xfrm>
                <a:off x="350532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>
                <a:off x="419112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48"/>
            <p:cNvSpPr/>
            <p:nvPr/>
          </p:nvSpPr>
          <p:spPr>
            <a:xfrm>
              <a:off x="14479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4"/>
          <p:cNvGrpSpPr/>
          <p:nvPr/>
        </p:nvGrpSpPr>
        <p:grpSpPr>
          <a:xfrm>
            <a:off x="3505320" y="1143000"/>
            <a:ext cx="3733560" cy="990720"/>
            <a:chOff x="3505320" y="1143000"/>
            <a:chExt cx="3733560" cy="990720"/>
          </a:xfrm>
        </p:grpSpPr>
        <p:grpSp>
          <p:nvGrpSpPr>
            <p:cNvPr id="265" name="Group 52"/>
            <p:cNvGrpSpPr/>
            <p:nvPr/>
          </p:nvGrpSpPr>
          <p:grpSpPr>
            <a:xfrm>
              <a:off x="5410080" y="1219320"/>
              <a:ext cx="1828800" cy="914400"/>
              <a:chOff x="5410080" y="1219320"/>
              <a:chExt cx="1828800" cy="914400"/>
            </a:xfrm>
          </p:grpSpPr>
          <p:sp>
            <p:nvSpPr>
              <p:cNvPr id="266" name="Text Box 46"/>
              <p:cNvSpPr/>
              <p:nvPr/>
            </p:nvSpPr>
            <p:spPr>
              <a:xfrm>
                <a:off x="541008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609588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3"/>
            <p:cNvSpPr/>
            <p:nvPr/>
          </p:nvSpPr>
          <p:spPr>
            <a:xfrm>
              <a:off x="35053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Text Box 55"/>
          <p:cNvSpPr/>
          <p:nvPr/>
        </p:nvSpPr>
        <p:spPr>
          <a:xfrm>
            <a:off x="3962520" y="3581280"/>
            <a:ext cx="4647960" cy="2288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through the arc list for the selected node, and keep track using current arc.  Stop when an admissible arc is identified or when the arc list is fully scan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528-92FF-4B58-9AF4-97AD56BA0C5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as follow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066680" y="5791320"/>
            <a:ext cx="64008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in the book also keeps track of the order in which nodes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FA77-D631-4D45-A1B3-67E733C543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80880" y="1219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dth first search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b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fir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47920" y="24382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0C97-3B05-4B8E-B739-40B1194404C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990720" y="2514600"/>
            <a:ext cx="5562360" cy="3507840"/>
            <a:chOff x="990720" y="2514600"/>
            <a:chExt cx="5562360" cy="3507840"/>
          </a:xfrm>
        </p:grpSpPr>
        <p:sp>
          <p:nvSpPr>
            <p:cNvPr id="282" name="Text Box 59"/>
            <p:cNvSpPr/>
            <p:nvPr/>
          </p:nvSpPr>
          <p:spPr>
            <a:xfrm>
              <a:off x="23623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61"/>
            <p:cNvSpPr/>
            <p:nvPr/>
          </p:nvSpPr>
          <p:spPr>
            <a:xfrm>
              <a:off x="41911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4"/>
            <p:cNvSpPr/>
            <p:nvPr/>
          </p:nvSpPr>
          <p:spPr>
            <a:xfrm>
              <a:off x="5562720" y="41148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4191120" y="25146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Oval 13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Oval 14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Oval 15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Line 19"/>
            <p:cNvSpPr/>
            <p:nvPr/>
          </p:nvSpPr>
          <p:spPr>
            <a:xfrm flipV="1">
              <a:off x="5486400" y="342864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 flipH="1" flipV="1">
              <a:off x="4495320" y="3276720"/>
              <a:ext cx="83844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 flipH="1">
              <a:off x="3580920" y="3352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3657600" y="426708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V="1">
              <a:off x="26668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2743200" y="533412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 flipV="1">
              <a:off x="5486040" y="441972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V="1">
              <a:off x="6400800" y="3504960"/>
              <a:ext cx="0" cy="160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 flipH="1">
              <a:off x="3733560" y="4267080"/>
              <a:ext cx="14475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4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35"/>
            <p:cNvSpPr/>
            <p:nvPr/>
          </p:nvSpPr>
          <p:spPr>
            <a:xfrm>
              <a:off x="9907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38"/>
            <p:cNvSpPr/>
            <p:nvPr/>
          </p:nvSpPr>
          <p:spPr>
            <a:xfrm>
              <a:off x="2362320" y="25909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>
              <a:off x="2666880" y="3352680"/>
              <a:ext cx="762120" cy="838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Oval 43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45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47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Line 4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51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53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0"/>
            <p:cNvSpPr/>
            <p:nvPr/>
          </p:nvSpPr>
          <p:spPr>
            <a:xfrm>
              <a:off x="6172200" y="251460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2"/>
            <p:cNvSpPr/>
            <p:nvPr/>
          </p:nvSpPr>
          <p:spPr>
            <a:xfrm>
              <a:off x="6248520" y="54864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9" name="TextBox 62"/>
          <p:cNvSpPr/>
          <p:nvPr/>
        </p:nvSpPr>
        <p:spPr>
          <a:xfrm>
            <a:off x="380880" y="6172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umbers next to the nodes are the distances from node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p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83A7-B9F3-44A5-81FE-EA19BA41D03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808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th first search (d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la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1219320" y="26668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9:27:04Z</dcterms:created>
  <dc:creator>Jim Orlin</dc:creator>
  <dc:description/>
  <dc:language>en-US</dc:language>
  <cp:lastModifiedBy>Sapient</cp:lastModifiedBy>
  <cp:lastPrinted>2010-09-15T20:06:18Z</cp:lastPrinted>
  <dcterms:modified xsi:type="dcterms:W3CDTF">2011-02-28T06:10:43Z</dcterms:modified>
  <cp:revision>53</cp:revision>
  <dc:subject/>
  <dc:title>15.082        Spring 1998</dc:title>
</cp:coreProperties>
</file>