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540698-257A-4BC4-AB75-EF21DF596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7F45F7-16F8-4145-AF7B-33C8E0159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4D7C63-B79E-4CB9-8BEE-3472F0801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C66047-A6A2-497D-94C1-A214DD46F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8B7931-8D06-4EE3-9B56-CCA730D60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C22-98A3-44CD-AA0C-208153AC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BA3-709B-4BC7-B334-A23EE1C5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08D-E346-4C5B-A80B-453076E6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CA0-F7F4-4F1E-B984-880657C1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311-DE15-4E3D-9208-6A61C327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B46-6058-4FE3-8873-47202E31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451-2635-41F6-BFED-EAC8D6C0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BD6-3A0A-4225-96DC-4CB3C13C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3FB-70C3-4364-820E-68C58F48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F62-56FF-48A4-A0FC-01DB6CB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AF0-7055-4D90-B447-C13BE78C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599-1EFA-4EB3-8D47-F3E3687A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95EB-F457-4C06-9F51-0A6CBCDE612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EDE2-41D1-44F3-8C99-FDC91BB038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5ED-53C5-4B1A-AD91-374C0E36D0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512CD-8A44-4694-8CB1-DAEC6EE199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2C4-A518-4797-AA89-F2C462C1B0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B6A44-DEA6-46C0-B576-B3ED61D3E8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B8A-59FE-42F3-B9D7-DC351CFEF437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8C474-7408-4F42-9C8C-320B2B682CDC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792-5029-4E89-B5CC-3C5B01EB1643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DB68D-F292-41A5-ADFB-3ACD005376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20F-6878-403A-8CB8-B0F56D2D9C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B7A47-93DF-4126-B559-6242A8ABF6B1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166-8ECB-4BCD-A826-2C9E15EAF52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72E72-9379-4AEF-A9BF-14CC9FFE9F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E7B-8120-4C30-B553-510A5BFB41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CCC85-852E-4FA3-8CAB-C7F8201E5C5F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A45-B5AC-4664-A0A6-3B16B0EA0C7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A6D61-B64A-4ED7-B586-5408F28C90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2E4-2737-45E2-A98B-B5DE9CA121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2E84F-CD86-4F22-B84C-16CAD2A12877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12C-FB49-46CC-8A78-ACF2FFD3E5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0ED28-C9BE-40B0-9740-85287C8FC8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338-F39C-441E-9B1D-43236FFFFD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E3362-DEC0-4263-81DB-351C47231E01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FD7-B5A9-4963-9FF7-3743976F5B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7E9C2-F785-44DC-B76A-D83E7C04B0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097-3430-41E9-8DEA-2652D0B7195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102EC-322F-45AA-91CD-21EE0FE0E2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B1C-FF74-4363-A787-F20B04DA93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33FFB-E32A-4EA9-9047-5423C0C007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DA2-05FC-4A2A-A2DD-47D79BF019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AAEC8-DB76-4E74-835F-9E7B8EC15093}" type="datetime5">
              <a:rPr lang="en-US"/>
              <a:t>Jul 31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CE8-A088-40A1-9BE8-10C182B5C2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CF3EC-7044-4749-A634-71CC4C27D44A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09E-30D5-43A9-8531-E933C5336E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A4BAC-0465-4A5D-83E0-B9B5E058EFEE}" type="datetime1">
              <a:rPr lang="en-US"/>
              <a:t>07/31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A85-DE69-457F-8493-4544C71B6E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1B7E0-51C6-4818-9D4A-2B0633B99A2B}" type="datetime5">
              <a:rPr lang="en-US"/>
              <a:t>Jul 31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8D4-20DC-46D8-84CA-7A9DD5A827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8644F-9A2D-4A61-8C55-F2505958C5B9}" type="datetime1">
              <a:rPr lang="en-US"/>
              <a:t>07/31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00D-8E2A-428E-85F6-D70379C2B8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02C9D-F153-4554-87D5-C747E0BCE6D7}" type="datetime1">
              <a:rPr lang="en-US"/>
              <a:t>07/31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39A-9CE2-40FD-B065-8F96189C4C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99C47-396E-46AE-8320-960507D8207C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B2F-3B4D-45D9-9357-BF81A6E2A2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3FE3F-362D-4848-8AA0-A33125BA1F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9D7-0382-4491-8674-A05D0C5BC6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956EA-F5F5-45A5-A022-2957323B5F67}" type="datetime1">
              <a:rPr lang="en-US"/>
              <a:t>07/31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12880" y="12571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AA2-797E-453F-928E-1306297C657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6BEE2-EAA6-48E7-B8BF-0BC59AA08F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83A-A074-4C18-8823-FF85A8E90D5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E66EB-002F-4C52-B64A-15BC99EB9FCA}" type="datetime1">
              <a:rPr lang="en-US"/>
              <a:t>07/31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ADB-D102-41BA-BFA6-11BE45E4140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D54D7-8CD8-4B73-AAFE-86C8CEE2B8A5}" type="datetime1">
              <a:rPr lang="en-US"/>
              <a:t>07/31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619-7A20-4164-9F1A-33FB8A895A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26E14-D3F1-4567-890B-D4727F575A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359-8F42-4340-83AC-949E2470A1A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871A3-2015-4BC1-AFC3-C640AE5E066D}" type="datetime1">
              <a:rPr lang="en-US"/>
              <a:t>07/31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B9C-D4F7-47AD-B56C-77B8F1396FE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55BC7-F9BA-4ECD-BB2E-D776E75A39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61F-5FAB-49E8-9408-6DCC4768E8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41B6B-73AA-4135-ABCD-7FA05CA446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27C-B7CB-4AEE-958B-54C01FFB0D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34E55-1F58-4BC0-AAE2-E59CC50FBB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314-8DAC-4AE7-9442-32C0F27E49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F101A-8502-4FCD-81C4-347AF38894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EA8-2134-46E4-AD0A-E2EFA2041C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B786C-3560-4BE9-A7EA-703E1D5391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77C-B5A1-4A90-8639-A9194D87C7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6BFCB-292E-4EE4-BAF9-E2B91468BA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0E6-0FFC-4C98-8EB8-4FC17B7186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6AE4F-6A9A-4D03-A8A1-8EB72385DA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C63-ED35-47DD-8A2A-79895FADCE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FE0D6-45A5-4695-973E-2B77109FDD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F97-3724-4E48-BF9F-31E0AF843E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104E9-5301-4CB2-A816-FE3FA519E2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4:38Z</dcterms:modified>
  <cp:revision>370</cp:revision>
  <dc:subject/>
  <dc:title>Thesis Proposal Meeting</dc:title>
</cp:coreProperties>
</file>