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896C16-3245-4453-9685-C41B32AD0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4A179B-5BA7-4501-9A83-A8BA8E502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70075E-0BD3-4058-8C0B-01E70292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722F7D-D0A6-4E35-8A73-60F6DCD1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46FC7-E050-40D4-A290-CC6FEF41D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317-80BA-4803-898B-8A837EF0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0D4-273A-4F58-93B2-56C501C4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3BC-C5AA-4712-84A6-33DF3891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A0A-7FFF-4003-B953-31E89B2F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24E-0E14-43CE-98AA-406EA876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E27-F0C9-4D0A-89A6-38BA623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3CF-2CC7-4F41-9B19-403452E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A6F-185B-4E23-A082-58F6123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3AB-7063-4E6A-914A-D931DCB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48C-2D52-4CE2-8C38-EBB10F2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971-B59E-41D4-AAF2-4A6112B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80B-1F8F-4FD8-BA5C-BA47B4B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A99-690A-4495-A466-6DBD77D9959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B521-3FC6-46BB-9354-AA6E14BDA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C2B-E7DD-4278-B16A-B9A637F9B7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EFA65-7EB8-4FF1-BFBF-D620F8072173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7A1-90E2-47B8-B931-60315962D8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C44F-E578-4A09-B1CE-A0928B0F97A7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04B-B872-4A3C-B37E-90B4737624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E1AA1-F25C-4C18-B92D-F10846819DE7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8AE-BF2C-41E2-BB0D-1EB2E7DF2C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0BA43-030D-489D-99B3-84A157A3E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059-87A1-4867-8451-545A8E7DCB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A3F60-F0F1-4203-B2C6-38C1515B50EC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5EF-B96D-49F3-B75C-D996D0081C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27F23-87AA-4B99-93D6-818AE02259E9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9CE-6073-4963-81FE-5209D1B9B4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B436F-84EC-48B6-956B-BB8B3C2B3A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790-DED9-4C90-BC8F-785A766308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72251-AE9C-4A7C-B15B-836E4CC25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29A-A9F2-4E82-A8EE-40EDA48B56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DFE7-6F19-4BC7-A8B1-2DDC16763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0D8-8C2A-469F-8261-331E510562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11555-CF6E-4ED3-801C-036999764B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D18-6EA8-47A1-ACED-D361EEB0B8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0D3B6-A35F-4CEA-8795-DBD93B058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A06-F31B-44FA-8E0C-CA0B7F2940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960FC-3193-4E5D-B806-229E42E7E0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2D3-A01A-4B3F-9923-8378B5F0F5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9FC3-6A05-4E1F-9704-5785131F88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917-3C09-4493-8AFA-A4529CDA43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C8318-82AB-482A-B527-B0895514E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7DB-D05F-441A-B8FD-A01D82DEEE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47737-7C68-496A-A717-0DF64097FB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11A-2694-4EE7-8A06-68E3933A48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20D09-2ED7-4DF7-A13C-E930EC0D0650}" type="datetime5">
              <a:rPr lang="en-US"/>
              <a:t>Jul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F98-4C1C-44FE-9790-EC3B77D564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F00D5-D5EB-4E84-897B-F06489EB2D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3AC-5BA6-44D0-BFF2-41C792C21C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1A24F-9646-4A0C-8AFC-2256DD0D3A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E50-BC32-4389-9E4F-799D374769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E87C8-359E-49E2-BF4D-7CF9B0009A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481-8A57-4EC8-913D-5B829BD867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47854-5AAE-44A8-8A52-4C8410456030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90E-E6D2-467D-9263-76F2A2C7AF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1C72C-BA0B-495A-89D2-9AD4F7BFAE77}" type="datetime5">
              <a:rPr lang="en-US"/>
              <a:t>Jul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