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E1A7FE-C702-4E16-BE63-9344F04A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4ACC71-9EF2-494A-9272-590BCC131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A1EB35-2B23-4289-941A-9EDFD2D4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A0BD99-FE4D-4B7D-8E86-77E99906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CE0E99-B504-4E60-8B92-E96B6D3F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6C9D92-FCBC-4F5D-BB38-ADFD4281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6D37D0-0F8D-447A-9004-36A8100B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ED598F-ACAD-400D-9333-67339B56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C3D709-963C-4297-9ACF-F9FDE278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7D9563-6C31-467C-8CC1-154D16667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869E1D-0BA8-44FE-8FF6-7CA52835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2B1815-1F33-4FA3-A8AA-2EB30BD34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E69165-76FD-4FEC-AAE3-5A0E4C85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6168C0-B9CF-4878-A987-7478C2DC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6FCF64-3857-41A9-A8AA-168C8376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FAC80F-93FE-4213-A3BF-3430336C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EF50E7-46DC-4FFB-B6B9-5A791B17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BBA650-6F1A-46AB-9984-B513C5D8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A8D-C92D-4CFB-88A8-5941CA2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208-559D-456D-9FA2-0EC6FA2D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AFC-2633-4C26-9144-5309EDD6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D43-7148-47AF-AB37-9339D510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27D-F9D8-4C5E-8BBC-53F248A8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578-06FD-40F5-8792-7D61BB6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4C5-4D8B-4827-ACF6-75D4BE1B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03E-36FF-43CB-91B4-03A945A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C52-065E-4209-8211-57845DD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FCE-3C8A-4CF7-B64B-755FCCED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8D5-9327-4B5B-8BB1-9AC5D53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01D-5C95-4F9D-8EA6-E527822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6FE-A037-4C10-B3EF-1FE5FD8CDCF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506-D7E0-4810-B284-BB73C3ED8D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6A8-F021-4F90-ADA5-DE55BCE457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055C-5206-43F2-87E8-83B2641477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B87-C1B8-4E97-B2CE-C3EABD0DAE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52FB9-A246-4C49-A3D0-9BC6135DC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A47-4F80-4C9E-812C-2A1B4EE68909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68BF-CFAC-47B1-A68B-E02695ED405F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0E7-FC62-437B-B02D-4A9857DABAC9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4A7E2-10A7-4B32-8ECF-6BAE6194AB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AE5-B605-4B71-9B73-8DB14377D6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2C073-6CAA-4FBE-B4C1-AB8F722EDA75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BDA-E151-4066-8754-988652EC872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20D58-877A-45B7-953D-CA633C7AC0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60B-75CB-4BCA-9E2A-884522D684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D6406-32E1-46FC-925E-4F18A9D45D84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526-76BE-4085-91C8-CBB5ACADBB7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3A93-A52E-44A4-8BDD-204F7EF69E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1D8-084A-4727-8935-131FF4D4D0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DE34F-7AA4-4776-8F4F-97D40FCF945F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DBE-6151-437E-87BC-9FC3359FF4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13104-D8FA-44B5-B9EB-CD17E109D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070-E0BB-43E1-9CA2-C4D28D0B81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F7698-F4C1-4904-A1E0-2E25C4CF6AE0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037-8A8F-436A-9F15-175A90F39D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2004E-DD4F-4C98-80AD-FEB1F70676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E5B-E4BB-448A-9BB7-E658EF4475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E07D0-052A-4838-829D-D429FC72D2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810-7651-4EC5-A355-D6F215F16D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7912-9FA6-4D13-BFD8-CF8E41696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727-B74D-429B-A486-C73D5C3A5C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5763F-D0F2-4074-AC00-B779723EDA6B}" type="datetime5">
              <a:rPr lang="en-US"/>
              <a:t>Jul 31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BAB-CD10-4B4F-AB38-0769C3FD89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F48DD-AC42-4BA4-8585-9FC48B22024B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2BA-FE89-4BAE-88D8-2101D60206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5B6E1-9C0F-40E7-A791-987EC4961203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262-C3BF-4E19-BDD0-954F9AE15F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C9489-2A6C-4F19-867C-CB2592F30397}" type="datetime5">
              <a:rPr lang="en-US"/>
              <a:t>Jul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431-5416-47F4-BA4A-7C6B690485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51F81-B8DE-49A1-85D9-206D2C916567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B1C-1EFD-460B-9D02-40D8FDEE1CA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34CA0-A376-444E-836A-714D1865A6C1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1ED-2157-421E-8605-26D4313639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A087-79F0-4DC9-9C36-4194A718B969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AF5-4877-44A5-ABA3-C7D595E5F8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B7A4F-64AC-408D-9B51-530D4610E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718-0DC6-46DB-844F-CB9EFF6A82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F5EB0-423B-4A44-9A93-1FFD48FD18E8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E3F-14DD-4206-AA2F-E5A22BA298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BB8C6-F338-4417-B115-2CF31C101B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C0C-5C39-437E-8E50-8B6EC7384A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279BC-D7AE-4B69-B356-CEA4AF928CF3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F94-DA90-4F50-A1B6-722C1723675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BEE9C-4C50-47A7-82E3-D7B86F46BF02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987-DECC-4979-A0E2-647CF88049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0270B-C0A7-4F91-AA46-C21333AC7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446-F712-4452-B63C-47687DD53F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EEB64-B7A3-4176-8367-BB3B5568E68E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0C8-343C-4F96-8E13-6C8EFC0F0C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E06C3-6C37-4FE5-B98C-E9A5E18AAE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BB1-22D9-4EA7-8250-AC5DA4739C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0C12A-D802-4388-93E3-9DCC58EA4F95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B67-3479-4CF5-A254-6DA60F7BCB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2C1BB-C9FD-48F4-ACFF-02C681B81234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FB3-0494-46AD-9C63-FDB95FA0329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E9C82-E785-4E3B-AEC6-AB77A515954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81C-9AAA-48CE-8621-CEB60EE751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E8D8D-9AB7-4D9C-8237-4B4C9F8DB0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12A-B756-45D0-8A28-AACCC660809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34548-F634-4849-9E22-300DBC074CDC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A10-F3AA-4FA6-98CD-5F95F423567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61246-1DBF-4930-8D18-70DEBBA7776F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EC-65CA-49D8-849A-31AC64D96F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8205E-B0C9-4B76-B872-89DFCC2073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C0C-FCC4-490F-98B7-E6C853E8B02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C8BFF-5B85-4B20-AA11-76A99C6F2CE1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9E6-E4F9-42A7-A477-BB27D6F998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57D6-70C7-4E01-AEAC-6C7033C19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55C-7797-4D54-81CF-FC2B93DAC8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24E42-FF3F-420D-B9AB-4ACB5951CD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2AD-6D01-45DF-A5B6-3E2F02CAEF9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FAB79-1A61-4FF0-A7D1-C6185F58D6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0B1-2C78-446E-BCF2-DE4EB0559D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F7C3-C3D3-4577-8731-AEA98A2965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F85-C1D4-4601-9070-DEFD1C4D7F9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49B2-5B4F-4BAE-84BE-778C50527CBD}" type="datetime1">
              <a:rPr lang="en-US"/>
              <a:t>07/31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053-E81B-4220-8BC3-EAA40EFF93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6F32C-1A4D-4B5A-8811-5ABBCEEA21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D11-BC1A-49D7-B39A-7809E50568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7A646-D984-4D11-8C02-B7649C4FDA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510-BA8B-449B-915A-429FEF37E5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4DF3-E04D-4EE0-90E3-027E9FA773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F92-A115-49B3-B2F4-01C9CB3F43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13B50-6D1C-41AA-9F85-4326063D3BE5}" type="datetime1">
              <a:rPr lang="en-US"/>
              <a:t>07/31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020-68A9-4B73-88E6-2C38219B11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AC5EB-C90C-4999-9571-F201CC148FFB}" type="datetime1">
              <a:rPr lang="en-US"/>
              <a:t>07/31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672-CCEB-4360-8F12-E2CA4DD85CB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5951A-386C-4F29-8FA2-7824DF016639}" type="datetime1">
              <a:rPr lang="en-US"/>
              <a:t>07/31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19F-9CA0-4E58-8882-145D5AA357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91D1A-6E5D-47A9-8414-C5E4140C03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FBB-9700-4ACC-A49E-38F65B345E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647F6-2C42-430A-B608-83CC02AB1EB5}" type="datetime1">
              <a:rPr lang="en-US"/>
              <a:t>07/31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162-3012-45A9-906A-5F6DB0C50DF8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2EC7D-A0DB-4486-95DB-3503F53B64BB}" type="datetime1">
              <a:rPr lang="en-US"/>
              <a:t>07/31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0B1-82EA-40D1-BF96-1EDD3A95809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4E749-E3BE-462F-BE06-696CD9C9F237}" type="datetime1">
              <a:rPr lang="en-US"/>
              <a:t>07/31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28A-BF72-4656-A865-F62DF719B3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2FD1F-65A6-4D8B-A564-C5948DDD4472}" type="datetime1">
              <a:rPr lang="en-US"/>
              <a:t>07/31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045-CCCC-43A2-BB5C-12CB79BCC88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9AA4B-694D-49BB-BDEE-D42C536AF231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FBD-6EB4-42C3-BAAE-838FA1B1B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0711C-02CF-4415-A406-8EA269342C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D6E-2B2C-4405-9ADD-A1251D5532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7ECA7-A8B1-45CB-B0FE-81360804E4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0C6-02E1-409E-BA6F-4E68BA601B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EF0E3-EAB9-4C73-AD95-3729B35375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4F8-B603-4F2A-9796-1DBC46B732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4D5F8-0952-4D10-9F9A-D7631C69C6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92F-D7C9-4F13-A12E-792FDC4337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AF32E-B38A-4911-A270-2A674C6B0B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113-1420-4EFB-BAF4-A986C0BE7D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8601B-AE04-49D1-969D-49111683A7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