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A3B-9905-4C65-8C3A-7DB09A6E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0C2-51BF-4CB9-BFDE-4F4FB6D2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5A3-1175-4F54-8FFE-E1F6E4E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490-F732-4F5D-A35E-7C5A295B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72A-80A9-463D-9619-CCB1C773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90B-0CE5-4D2E-B541-70415293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BB5-12F1-4312-9180-8BB26463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C9B-E79E-447F-B3B4-32563C41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755-A016-42C4-A142-8D135813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E9E-4731-4ABC-A12B-6CF0D14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748-F0FC-4EA9-BF76-7F196BD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E8D-62C2-4D85-88CC-E490615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E87-E92C-4509-A7CE-D873F861DD5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066-C5FF-4E30-814E-5B89462E1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:  Defin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3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QSI for each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each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irlin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 a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airlin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equal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all market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957-A29C-4342-A22F-B7174F849C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841D9-4E33-47AF-A437-1FBD70984AF0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the competitors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1 –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is 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FB1-3F34-4518-A962-6080C831FD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357BF-50B8-4632-A816-70AF9AD4EDE6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passenger who desires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is redirected (spilled) to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assenger has the choice of accep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not (going to a competi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ability that passenger will accep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given an uniform distribution) is the ratio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ability that passenger wil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given an uniform distribution) is the ratio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tios sum to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 monopoly, recapture rate will equal 1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009-B713-4A39-B7ED-8BC0BF4BBF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19536-CA0A-45CC-ACD9-451B62469902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Calc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 rates for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probability that a passenger spilled from I will accept a seat on J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one ex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SI mechanism for computing recapture r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0760" y="4222800"/>
                <a:ext cx="3619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633-5252-4592-A785-3585EDC982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DA1DC-30F8-4F7D-BBCE-5E15E3AA0A1E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Recap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5619600"/>
            <a:ext cx="53352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5619600"/>
            <a:ext cx="53316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25780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2560" y="5605560"/>
            <a:ext cx="2560680" cy="25056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5929200"/>
            <a:ext cx="2573280" cy="23508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497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3080" y="53150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3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6960" y="57722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8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apture ra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all itineraries have a single fare class, and their fares are all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I to J, Spill _____ from I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J to I, Spill _____ from J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K to I, Spill _____ from K to 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81480" y="36576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4114800"/>
            <a:ext cx="533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0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4114800"/>
            <a:ext cx="4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814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54B-B7F8-48BD-B295-ACDE3E3D3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C1A29-3C18-432E-87F1-7256298EB3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thematical Model: 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e number of passengers that desire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n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verage fare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aily unconstrained demand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apacity on flight leg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capture rate of a passenger desiring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ho is offered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22360" y="5543640"/>
                <a:ext cx="609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flight leg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on itinerary 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8680" y="2286000"/>
                <a:ext cx="285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30240" y="3772080"/>
                <a:ext cx="782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114800"/>
                <a:ext cx="609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4457880"/>
                <a:ext cx="8128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4743360"/>
                <a:ext cx="260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C34-1E14-4BF7-865E-401AAF2C32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DC0F3-CF13-435D-8F71-192169DCB2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asi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6880" y="1314360"/>
                <a:ext cx="849024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imize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ar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</m:t>
                          </m:r>
                        </m:e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C29-DFFE-47DE-B630-90B8FF0CA8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E8FD1-AC7A-42FC-A18D-BBD86EED7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116-AAAE-4272-AFAA-31477FD4C9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887C6-134C-42A1-AD29-B601952DF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BF8-924F-4126-A452-7027A9DE16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80D09-58F9-4EF2-A75B-6360739DE2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59480" cy="4800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90F-7232-46E3-A22F-91CD2B2A591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5A669-CF57-456C-BE0A-6147CDC418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ssenger Mix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 and Exten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48F-3558-42BA-8D72-66351601A2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DE4B8-F906-4A6B-8599-31DD8F7A0F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94A-42AD-455A-9CD8-BBAC7E4A32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E7D59-C2FE-40D4-9C0A-F46A5BD5CE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most passengers flow along their desired 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which passengers the airline would like to redirect on other itine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ecision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number of passengers who desire travel on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but the airline attempts to redirect onto the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unconstrained demand on flight leg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03160" y="4191120"/>
                <a:ext cx="728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24000" y="53276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87520" y="5886360"/>
                <a:ext cx="2995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718-A121-46AC-9305-90EE169767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BD74F-C38A-433C-BE67-090E296E2E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428840"/>
                <a:ext cx="7619760" cy="33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  <m:sup>
                                          <m:r>
                                            <m:t xml:space="preserve">r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e>
                                  </m:d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5562720"/>
                <a:ext cx="16732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¹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875120" y="4952880"/>
            <a:ext cx="266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952880"/>
            <a:ext cx="342900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DE1-6EE0-4342-B789-FC2151E903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405A3-0D3C-4AB3-99FD-1FC5F08341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DC9-E895-499D-9495-93629B0938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F148B-A178-483A-81D0-7EB844F2DF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27D-D3D2-4E23-A663-4F58EFDF55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6D2DF-3F73-431B-8150-5630A2E140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number of itineraries in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m aren’t going to be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columns by explicit enumeration and “pricing out”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0D7-9ACE-43F1-B82B-C3A5C8C06F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6B643-BD33-46A9-B4EF-340121B611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ing Reduc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duced cost of a column i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    is the non-negative dual cost associated with flight le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      is the non-negative dual cost associated with itiner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87280" y="2400480"/>
                <a:ext cx="6770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r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33720" y="33526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67280" y="3962520"/>
                <a:ext cx="609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0BF-9041-4CE8-A21D-53DE72E57F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E1B00-8307-435B-97EC-F43C97712D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ving the Pricing Problem (Column Generation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he column generation step be accomplished by solving shortest paths on a network with “modified” arc costs, or some other polynomial time algorith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nt:  Think about far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mplications of the answer to this ques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A9B-5D59-4CEB-89F6-A6F27BDF66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73F21-1F66-4CCA-9BEB-12FCC2595542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United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Markets -15,67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Itineraries - 60,2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legs in an itinerary-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itineraries in a market- 6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network (# of flights)-  2,03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PLEX, we solved the above problem in roughly 100 seconds, generating just over 100,000 columns and 4,100+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CDE-5BE1-4284-9754-7FA203E892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4CD14-2A03-493F-B127-2761CC0B1D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s:  Irregular Opera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flights are cancelled or delay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itineraries are cance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reassignments to alternative itineraries necess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ight schedule and fleet assignments (capacity) are kn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jective might be to minimize total delays or to minimize the maximum delay beyond schedu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re recapture rates affected by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the passenger-mix model have to be altered for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F01-827B-4FED-8F84-F9EB0605A0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26DE8-5805-4747-BBCB-D1F2CF1570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Basic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origin-destination airport pair, between which passengers wish to fly one-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-ORD and ORD-BOS are differ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c sequence of flight legs on which a passenger travels from their ultimate origin to their ultimate dest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t prices for the same travel service, usually distinguished from one another by the set of restrictions imposed by the air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027-9AD1-42CD-BDD1-C597845FD6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5F7E9-771C-49AA-B65A-90B4E4A733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 Yield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passenger mix problem be used as a tool for yield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ssu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vs. stochas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uence of requ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mall demands (i.e., quality of da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ws the expected makeup of seat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s into account the probability of recapturing spilled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ideas of itineraries that should be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ual prices might give us ideas for contributions, or displacement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6CB-8BF5-4485-B1DA-36DC0B6DF5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1FC54-CBFB-477B-87F5-EC31B52541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Fleet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explained in the next lecture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EDA-3199-400F-B429-EE15C454F6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2E12E-3352-4FDA-90B3-A8C3FAD4A6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More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denied booking due to capacity restri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recaptured back to the airline after being spilled from another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81E-5CD7-4D98-A5F2-F223F11732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B8807-9A77-4EB5-90E4-F280B4CE55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constrained demand for all itineraries over the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ize revenues by intelligently spilling passengers that are either low fare or will most likely fly another itinerary (reca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quivalent to minimize the total spill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8B8-9ADD-4DA4-81CC-DA486FCAFC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0EDFF-680C-4E27-9372-443894B981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105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13480" y="5105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6240" y="47433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2560" y="50911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2560" y="54151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1160" y="4362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760" y="474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2040" y="5200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onstrained demand per itine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demand for an itinerary when the number of seats is unlimi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21A-A442-4A6F-A450-42A5160317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1E4A6-9B67-4E26-BAFF-0DB2D0E19C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Capacity Constra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462276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684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960" y="42861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6280" y="46339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49579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3886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46483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8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I = 1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J = 17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K = 1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90920" y="41148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90920" y="50292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457200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D28-7F75-4738-906C-B67955DFE5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64909-0D37-41C2-A222-B2939D9824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enue Management:  A Quick Loo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are clas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: High fare, no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: Low fare, many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for Flight 1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 class: 95 with an average fare of $4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class:  225 with an average fare of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Spill Solution (     Y and      M passenge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nue:  $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ll: 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87692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86400" y="487692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5334120"/>
            <a:ext cx="2133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5*400 + 192*10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867280"/>
            <a:ext cx="91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*100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59C-7B62-43E7-AE0A-C2F186ABAE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A3CF1-3EFC-47F9-B543-6B8AE0BC43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Revenue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201, ORD-SFO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(one fare cla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225 passengers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150 passengers $1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150 passengers, $2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 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         passeng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14800" y="44006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*100+150*150+137*225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4705200"/>
            <a:ext cx="533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71800" y="51624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71800" y="56196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7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A00-65B1-403D-B826-6EF9AA4D72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9B324-7555-43A5-A6F5-C21148BBFD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4:55Z</dcterms:modified>
  <cp:revision>413</cp:revision>
  <dc:subject/>
  <dc:title>Thesis Proposal Meeting</dc:title>
</cp:coreProperties>
</file>