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CD3-9DC8-4385-A3C9-670B27DE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81F-36E3-4538-8403-47F0DB4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FB7-F7FB-4051-8623-50EB337A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CE1-C81B-4282-A5A5-73468CEF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65B-54EE-4323-BAED-C211418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522-DAC4-4BB0-AE70-472D64CB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3A1-CBE3-4C34-93B3-6B57AA09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8FD-C4CD-4809-AD6F-C392D93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769-5D0E-44D2-A4A1-869AFC2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60F-3284-430C-8FEE-9FDFE4A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FBA-F645-4DC3-BF5A-C98AAE9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C0B-0D01-458A-BB2D-B12B7617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7661-2A1C-429A-9D03-B3136C0BB77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87E-C5CE-4A65-8DFC-E67626BCE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238-62B1-48A5-B198-3593D71238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E1F84-685B-4D58-B54B-D7C25E3EC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729-71A4-4DF4-948D-F8F66E6F45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F64E0-6752-46C6-B45D-8E002CE2C6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E27-90C4-4861-9525-AAB29FAD8A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CDC82-45D2-43E7-9D36-4B0C198BAB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49E-09F9-4B21-968A-5872CC04CE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100E6-DCA1-45A5-9718-7F0B8B536D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8A6-473E-41AC-9ECF-4C0CE581E9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69195-20E2-4523-9586-67CC5B413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151-1ED8-479E-B195-512ED0A6CD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EEEB1-A71B-4E43-BAE5-D70764AEC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640-715C-4747-BAB3-A355141797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02A03-AA9E-472E-B9BC-48F2A274C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776-10C0-4C6F-B713-3C5B717447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BBCF2-D9C9-40CF-8D48-146B8C5CB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BA3-9D07-4AF5-9EC7-DF2E12319F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98CF1-2057-4103-A0EE-E83E9835A9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798-EF42-4718-A91C-12624C2098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5EEFE-747A-44ED-888A-0809C8F52D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9B5-6E1A-4778-871F-BA1938B643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0CBEC-5DE0-4DD2-B1DA-AE95BF858D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D97-E724-479B-8635-816A52CF2D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F38F8-267A-49B2-99E7-F2337A3B46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559-FE07-4D4A-A1C6-BF703CF609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6B331-90CC-4ED6-9777-E7D6A5E6E3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853-3471-45E1-8F5F-6E2652D738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E7557-D35A-451F-B449-5FEE67C921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97B-9405-4A02-8F68-9C07523D70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FF53-212D-4D3C-BAFE-560720D0C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4D9-2D99-4541-8884-7BCF8FDE4F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78110-74D5-4677-BD43-42DD51C5F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CA4-EBAC-4D83-9A4A-306F2C4A84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1922B-831E-458C-9A12-973DB8246E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6C4-A6C0-4F79-A19A-6729D6CAEC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704F2-A426-4A0B-A668-91C8EDD78B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AF7-ABA9-442D-BE4F-E69ADA8560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35C45-0E6B-44C2-B9C2-B8B7DB709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A6C-4084-4BC6-B5B2-0CD8C4C6AA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30E5-8493-4702-BBD4-C36B5AF25F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6F6-1331-45FF-A73C-BDF7DB274B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C1508-7DDA-4EF5-B93D-311DB6526B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249-2EB9-4972-BC54-0135880680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09F45-934A-4E7F-ABC9-C6CDEA4B89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C79-6335-4F6C-BB56-6D252900FC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C5C5F-347A-4017-8FFA-593530A1A6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D56-100F-4C08-8672-4AF036FECA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87629-326E-4EE7-97B8-1DADD8E56D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9EC-B644-4BCC-A92F-10F5B0C11E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8CE88-E17C-44CE-BDF9-73ECAA1AAC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AD6-1E7F-4756-B15B-E5B1838581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33F15-7266-413E-A6E6-BEAA36C8F8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818-BE36-401C-A036-318FB9E24D0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0EA80-9518-4954-8704-8FA61E8C0C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E60-5337-4C06-BC38-BF57822F74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D977C-5670-4B77-A97E-7E6D4DECCF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5C7-BF91-482A-8B36-BD5FC109BE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3353C-36F3-4946-809A-868BDFD53E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D84-D637-4D61-AA15-3133C8B66E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70A9B-083F-4274-B38D-BCAA7F816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8D4-7376-481C-9EA3-231971C74E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24205-AF1E-4482-9DB2-95B66DD21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965-E67B-4942-B096-1151CE3771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37ECB-103C-4D8C-A685-B35510ED49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7A-E3C2-4C04-AA83-757B61E46C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CCCC2-884D-4FA6-A4FB-4386D4AC1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22A-C505-4AB8-BC6A-D7D1B7D0927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0DC1B-421C-461A-8877-D9D2D968B0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9CB-E443-4798-A3CF-9CA8B3C2AF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93BB4-1A78-4877-808E-F0F363E7DB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E13-B25E-4597-A8E2-57A17452575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84877-08AA-48A6-96EF-90EF80DC9B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2AA-64EC-4908-B763-FB8C623C810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4F7BA-24B2-4E0E-B234-F4BDBDFC2B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5D7-0C87-4832-A8FE-98A4A6B64F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30508-ED4E-40CF-A7B8-DC9F3B92D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379-1B65-4340-B68F-37BDCEE2A07D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E7A6D-47FD-411D-82F1-124C7DFD8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11E-74CC-424A-998E-C0E426ACB372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4CE54-45EC-491C-8061-5CBFC3FDB3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C1E-DF0D-4C8D-9F0E-BE7D00D568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BBF9B-3AA9-4309-BCDB-A0DBCBDB92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CA9-9572-4958-A1FF-F8051346232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24FE3-8EAC-43BF-AC5E-F1024241B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FAB-1FE2-4CF2-80C9-4A5F69CD5E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43A68-CFF3-4EEE-A982-2584898D3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CB8-34DF-4534-BDED-535005E87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28D13-15AE-4F3F-86D4-D63ACBF952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C3A-88D8-4D18-A18E-0C37ADAE13CA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18D66-528A-45AE-AF6B-8D05D05D49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61D-40D4-4143-B9BB-CFD5D76786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4CCDC-1086-49BC-8BA8-2A32BE269109}" type="datetime1">
              <a:rPr lang="en-US"/>
              <a:t>07/31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2D-8171-4A18-BF19-32CBEE0AF0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5F714-51EC-44EB-B761-8C0C72A551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DA7-6248-42EF-8EB4-B41A01DDC6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B382B-6351-46E8-8F35-B8A674DFAA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901-9F70-4049-B126-274497BA8B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A1B0-FF12-4095-9071-D0AF5CC282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09F-B0CA-4FDC-82AB-6C90A7444D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C7B5C-3F1D-494E-A4B6-40319BAEC8F8}" type="datetime1">
              <a:rPr lang="en-US"/>
              <a:t>07/31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9E8-5D60-4160-A44B-1ED81471605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24EE5-047F-4A7F-910A-20E64CA07EC4}" type="datetime1">
              <a:rPr lang="en-US"/>
              <a:t>07/31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A6D-F956-4076-9157-85C9163B5F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63060-9927-4CEE-BF42-E7BD39ACB6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848-378D-4372-9CBA-511EA192B6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1BA8C-E572-4D0A-9E04-3A5E17DEA1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7F9-7E18-4EED-9F04-CCADA7A641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E2DA2-DCD2-4890-A240-991DE0CE30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AA3-1E08-4137-B9F5-0E316219EE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442AF-6B29-474A-99E4-BB1DD4FD0B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77F-99A9-4943-B398-00D824B454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70A9-9BB9-42C8-8F70-50B038C1CD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ABD-9F40-4DC0-8F33-543B64DE0C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7E5D9-7B50-4EE1-B47F-003BCB7E0E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